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F35F-2683-47C5-A5A2-E4FDB5DC0A7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B254-B20A-46A1-BA60-F150857FF9A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4FDA-4733-421C-B658-B93565130F2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B8E5-E60C-4194-A09A-FCFE97FA8BF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4DFF-3991-4A4D-A9FD-AB00151750C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021D-530B-4630-A908-C36A259D866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4F1B-5008-44E5-9951-484954E4456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40D2-F1E4-4F44-8933-0725ECA90DB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085C-D8E3-49FB-B7BB-E8063A4D7A0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4CA3-E8CC-43A1-9181-08B5D1053FF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E21D-552E-4EE8-B345-EEA08F5724A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52578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2"/>
          <p:cNvSpPr/>
          <p:nvPr/>
        </p:nvSpPr>
        <p:spPr>
          <a:xfrm>
            <a:off x="0" y="52578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39"/>
          <p:cNvSpPr/>
          <p:nvPr/>
        </p:nvSpPr>
        <p:spPr>
          <a:xfrm>
            <a:off x="760320" y="6534000"/>
            <a:ext cx="37782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42"/>
          <p:cNvSpPr/>
          <p:nvPr/>
        </p:nvSpPr>
        <p:spPr>
          <a:xfrm>
            <a:off x="2391840" y="6326280"/>
            <a:ext cx="224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UTONOME PROVINZ BOZEN - SÜDTI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43"/>
          <p:cNvSpPr/>
          <p:nvPr/>
        </p:nvSpPr>
        <p:spPr>
          <a:xfrm>
            <a:off x="5158440" y="6326280"/>
            <a:ext cx="271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ROVINCIA AUTONOMA DI BOLZANO - ALTO ADI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44"/>
          <p:cNvSpPr/>
          <p:nvPr/>
        </p:nvSpPr>
        <p:spPr>
          <a:xfrm>
            <a:off x="5257800" y="6485040"/>
            <a:ext cx="35748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000000"/>
                </a:solidFill>
                <a:latin typeface="Arial"/>
              </a:rPr>
              <a:t>9° Censimento dell’industria e dei servizi e Censimento delle istituzioni non prof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45"/>
          <p:cNvSpPr/>
          <p:nvPr/>
        </p:nvSpPr>
        <p:spPr>
          <a:xfrm>
            <a:off x="1559880" y="6485040"/>
            <a:ext cx="30351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9. Arbeitsstättenzählung und Zählung der Non-Profit-Organisation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40"/>
          <p:cNvSpPr/>
          <p:nvPr/>
        </p:nvSpPr>
        <p:spPr>
          <a:xfrm>
            <a:off x="5257800" y="6534000"/>
            <a:ext cx="37782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63"/>
          <p:cNvSpPr/>
          <p:nvPr/>
        </p:nvSpPr>
        <p:spPr>
          <a:xfrm>
            <a:off x="428760" y="723960"/>
            <a:ext cx="370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65" descr="LW_Adler_4C_16x20"/>
          <p:cNvPicPr/>
          <p:nvPr/>
        </p:nvPicPr>
        <p:blipFill>
          <a:blip r:embed="rId2"/>
          <a:stretch/>
        </p:blipFill>
        <p:spPr>
          <a:xfrm>
            <a:off x="4718160" y="6310440"/>
            <a:ext cx="360360" cy="449280"/>
          </a:xfrm>
          <a:prstGeom prst="rect">
            <a:avLst/>
          </a:prstGeom>
          <a:ln w="0">
            <a:noFill/>
          </a:ln>
        </p:spPr>
      </p:pic>
      <p:pic>
        <p:nvPicPr>
          <p:cNvPr id="10" name="Grafik 1" descr=""/>
          <p:cNvPicPr/>
          <p:nvPr/>
        </p:nvPicPr>
        <p:blipFill>
          <a:blip r:embed="rId3"/>
          <a:stretch/>
        </p:blipFill>
        <p:spPr>
          <a:xfrm>
            <a:off x="0" y="0"/>
            <a:ext cx="8827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179280" y="719280"/>
            <a:ext cx="3851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8"/>
          <p:cNvSpPr/>
          <p:nvPr/>
        </p:nvSpPr>
        <p:spPr>
          <a:xfrm>
            <a:off x="5102280" y="719280"/>
            <a:ext cx="3851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865080" y="452520"/>
            <a:ext cx="32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NOME PROVINZ BOZEN - SÜDTI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1"/>
          <p:cNvSpPr/>
          <p:nvPr/>
        </p:nvSpPr>
        <p:spPr>
          <a:xfrm>
            <a:off x="4994640" y="452520"/>
            <a:ext cx="396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OVINCIA AUTONOMA DI BOLZANO - ALTO ADI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995360" y="719280"/>
            <a:ext cx="2244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Arial"/>
              </a:rPr>
              <a:t>Istituto provinciale di statist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2153880" y="719280"/>
            <a:ext cx="195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Landesinstitut für Statisti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1305000" y="1413000"/>
            <a:ext cx="6549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9. Arbeitsstättenzählung</a:t>
            </a: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und Zählung der</a:t>
            </a: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Non-Profit-Organisatio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3665880" y="2941560"/>
            <a:ext cx="18219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4. Juli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mon Gärt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687960" y="3789360"/>
            <a:ext cx="7826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9° Censimento dell’industria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e dei servizi e Censimento delle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stituzioni non prof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3688200" y="5318280"/>
            <a:ext cx="18219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imon Gärt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2"/>
          <p:cNvSpPr/>
          <p:nvPr/>
        </p:nvSpPr>
        <p:spPr>
          <a:xfrm>
            <a:off x="193680" y="6350040"/>
            <a:ext cx="3851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5102280" y="6350040"/>
            <a:ext cx="3851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8" descr="LW_Adler_4C_20x25"/>
          <p:cNvPicPr/>
          <p:nvPr/>
        </p:nvPicPr>
        <p:blipFill>
          <a:blip r:embed="rId1"/>
          <a:stretch/>
        </p:blipFill>
        <p:spPr>
          <a:xfrm>
            <a:off x="4210200" y="358920"/>
            <a:ext cx="718920" cy="898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9" descr="Abt8_Logo"/>
          <p:cNvPicPr/>
          <p:nvPr/>
        </p:nvPicPr>
        <p:blipFill>
          <a:blip r:embed="rId2"/>
          <a:stretch/>
        </p:blipFill>
        <p:spPr>
          <a:xfrm>
            <a:off x="4235400" y="6094440"/>
            <a:ext cx="684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4"/>
          <p:cNvSpPr/>
          <p:nvPr/>
        </p:nvSpPr>
        <p:spPr>
          <a:xfrm>
            <a:off x="1368360" y="1268280"/>
            <a:ext cx="7559640" cy="410544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1368360" y="287280"/>
            <a:ext cx="7559640" cy="52056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iassunto principali risultati impr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332000" y="4869000"/>
            <a:ext cx="770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La maggiore propensione a operare all'estero registrano l'industria del legno e il turism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332000" y="4292640"/>
            <a:ext cx="770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Dove lavorano le persone giovani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7"/>
          <p:cNvSpPr/>
          <p:nvPr/>
        </p:nvSpPr>
        <p:spPr>
          <a:xfrm>
            <a:off x="1332000" y="3716280"/>
            <a:ext cx="770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Dove si concentrano le posizioni direttive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8"/>
          <p:cNvSpPr/>
          <p:nvPr/>
        </p:nvSpPr>
        <p:spPr>
          <a:xfrm>
            <a:off x="1332000" y="3141720"/>
            <a:ext cx="770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Aumenta l'occupazione nei comuni rural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9"/>
          <p:cNvSpPr/>
          <p:nvPr/>
        </p:nvSpPr>
        <p:spPr>
          <a:xfrm>
            <a:off x="1332000" y="2565360"/>
            <a:ext cx="770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Riduzione dell'industria e costruzioni, aumento dei servizi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0"/>
          <p:cNvSpPr/>
          <p:nvPr/>
        </p:nvSpPr>
        <p:spPr>
          <a:xfrm>
            <a:off x="1332000" y="1989000"/>
            <a:ext cx="770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Dimensione media delle imprese aume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1"/>
          <p:cNvSpPr/>
          <p:nvPr/>
        </p:nvSpPr>
        <p:spPr>
          <a:xfrm>
            <a:off x="1332000" y="1413000"/>
            <a:ext cx="770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Imprese, unità locali e addetti cresco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Piktogramm"/>
          <p:cNvPicPr/>
          <p:nvPr/>
        </p:nvPicPr>
        <p:blipFill>
          <a:blip r:embed="rId1"/>
          <a:stretch/>
        </p:blipFill>
        <p:spPr>
          <a:xfrm>
            <a:off x="3276720" y="1557360"/>
            <a:ext cx="32940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1368360" y="287280"/>
            <a:ext cx="6480360" cy="52056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auptergebnisse Unterne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1368360" y="1125360"/>
            <a:ext cx="727236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ternehmen, Arbeitsstätten und Beschäftigte nehmen zahlenmäßig z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03280" y="1800360"/>
          <a:ext cx="6993000" cy="4265640"/>
        </p:xfrm>
        <a:graphic>
          <a:graphicData uri="http://schemas.openxmlformats.org/drawingml/2006/table">
            <a:tbl>
              <a:tblPr/>
              <a:tblGrid>
                <a:gridCol w="2185920"/>
                <a:gridCol w="693720"/>
                <a:gridCol w="692280"/>
                <a:gridCol w="1116000"/>
                <a:gridCol w="227160"/>
                <a:gridCol w="691920"/>
                <a:gridCol w="693720"/>
                <a:gridCol w="692280"/>
              </a:tblGrid>
              <a:tr h="396720">
                <a:tc gridSpan="8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ernehmen, Arbeitsstätten und Beschäftigte</a:t>
                      </a:r>
                      <a:br>
                        <a:rPr sz="1000"/>
                      </a:b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e, unità locali e addet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Veränderung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zione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erneh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Unterneh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9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o impre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chäftigte der Unterneh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.5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.5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7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tti delle impre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eitsstätten (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à loca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eitsstätten der Unterneh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3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7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à locali delle impre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chäftigte in den Arbeitsstät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.2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.7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5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tti delle unità loca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 gridSpan="8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 Arbeitsstätte: Produktionsstätte, Geschäft, Werkstatt, Büro, Lager, Restaurant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Unità locale: stabilimento, negozio, officina, ufficio, magazzino, ristor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1368360" y="287280"/>
            <a:ext cx="6480360" cy="52056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röße der Unterne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368360" y="981000"/>
            <a:ext cx="64803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urchschnittliche Betriebsgröße steigt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403280" y="154296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schäftigtengrößenklasse - 2011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lasse dimensionale -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Grafik 3" descr=""/>
          <p:cNvPicPr/>
          <p:nvPr/>
        </p:nvPicPr>
        <p:blipFill>
          <a:blip r:embed="rId1"/>
          <a:stretch/>
        </p:blipFill>
        <p:spPr>
          <a:xfrm>
            <a:off x="1454040" y="2124000"/>
            <a:ext cx="729612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1368360" y="287280"/>
            <a:ext cx="6480360" cy="52056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irtschaftsbere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368360" y="1052640"/>
            <a:ext cx="705816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nahme des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Produzierenden Gewerbes und Baugewerb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, Zunahme der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Dienstleistungsbere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403280" y="1800360"/>
          <a:ext cx="7453440" cy="3867120"/>
        </p:xfrm>
        <a:graphic>
          <a:graphicData uri="http://schemas.openxmlformats.org/drawingml/2006/table">
            <a:tbl>
              <a:tblPr/>
              <a:tblGrid>
                <a:gridCol w="2989440"/>
                <a:gridCol w="985680"/>
                <a:gridCol w="986040"/>
                <a:gridCol w="198360"/>
                <a:gridCol w="2293920"/>
              </a:tblGrid>
              <a:tr h="4600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ernehmen und Beschäftigte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ozentuelle Veränderung 2011/2001</a:t>
                      </a:r>
                      <a:br>
                        <a:rPr sz="1000"/>
                      </a:b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e e addetti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variazione percentuale 2011/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TSCHAFTSBEREI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ernehmen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chäftigte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t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ORE DI ATTIVITÀ ECONOM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Veränderung/Variazione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wirtschaftliches verarbeitendes Gewerb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vità agricole manifatturie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zierendes Gewerbe und Baugewerb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 e costruzio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el und Gastgewerb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o, alberghi e ristoraz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nstleistungen für Unternehm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zi alle impre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du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ruz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undheits- und Sozialwes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ità e assistenza soci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stige Dienstleistung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i serviz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1368360" y="287280"/>
            <a:ext cx="6480360" cy="8254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änderung der Unternehmensanzahl und Beschäftigten nach Gem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368360" y="1268280"/>
            <a:ext cx="64803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chäftigung in den ländlichen Gemeinden nimmt z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1" descr=""/>
          <p:cNvPicPr/>
          <p:nvPr/>
        </p:nvPicPr>
        <p:blipFill>
          <a:blip r:embed="rId1"/>
          <a:srcRect l="0" t="0" r="6772" b="0"/>
          <a:stretch/>
        </p:blipFill>
        <p:spPr>
          <a:xfrm>
            <a:off x="971640" y="1989000"/>
            <a:ext cx="81374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68360" y="287280"/>
            <a:ext cx="7272360" cy="42912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o arbeiten Beschäftigte mit Führungspositione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2519280" y="971640"/>
            <a:ext cx="5473800" cy="5236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-5133960" y="-5853240"/>
            <a:ext cx="1440" cy="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368360" y="287280"/>
            <a:ext cx="7345440" cy="42912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o arbeiten die jungen Personen (unter 30 Jahre)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1" descr=""/>
          <p:cNvPicPr/>
          <p:nvPr/>
        </p:nvPicPr>
        <p:blipFill>
          <a:blip r:embed="rId1"/>
          <a:stretch/>
        </p:blipFill>
        <p:spPr>
          <a:xfrm>
            <a:off x="2340000" y="971640"/>
            <a:ext cx="604980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368360" y="287280"/>
            <a:ext cx="6480360" cy="52056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ternationalisierung/Ex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368360" y="981000"/>
            <a:ext cx="705816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stärkste Auslandsorientierung weisen die Holzindustrie und der Tourismus a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Grafik 1" descr=""/>
          <p:cNvPicPr/>
          <p:nvPr/>
        </p:nvPicPr>
        <p:blipFill>
          <a:blip r:embed="rId1"/>
          <a:stretch/>
        </p:blipFill>
        <p:spPr>
          <a:xfrm>
            <a:off x="1547640" y="1979640"/>
            <a:ext cx="72723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8:18:56Z</dcterms:created>
  <dc:creator>Lantschner Raimund</dc:creator>
  <dc:description/>
  <dc:language>en-US</dc:language>
  <cp:lastModifiedBy>Stauder, Renata Ruth</cp:lastModifiedBy>
  <cp:lastPrinted>2014-07-22T14:30:00Z</cp:lastPrinted>
  <dcterms:modified xsi:type="dcterms:W3CDTF">2014-11-05T15:03:04Z</dcterms:modified>
  <cp:revision>90</cp:revision>
  <dc:subject/>
  <dc:title>Vorlage Powerpoint</dc:title>
</cp:coreProperties>
</file>