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AD2A-7F21-4EE1-A81A-CBB7BB3DD9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DCD9-CE90-46C4-BE13-97A6DF4C38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8380-D0A7-4C85-BD96-040C00FF0D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E51F-5DEB-4D7E-980F-DEA4EF3245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72F-F08C-461E-86B0-BD27709CAF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E87-2765-4692-9B6F-5106AA15ED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79F-002B-4B50-B7A8-3043CA0014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139-E3E5-4277-8974-777DE17A89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5A7-6390-42E5-8ED0-EB392FDD63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8B0-F2CF-4389-A2A9-1621221AAC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60B-DAB0-4E0F-8E6C-1B84F61FCA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FF0-447C-41F0-8795-7EBC24B843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8E1-A35A-41AB-AEC9-BF8DEF3CF5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3508-F0D6-4594-B30F-4C2383F8AA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2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76032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2"/>
          <p:cNvSpPr/>
          <p:nvPr/>
        </p:nvSpPr>
        <p:spPr>
          <a:xfrm>
            <a:off x="2391840" y="6326280"/>
            <a:ext cx="224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3"/>
          <p:cNvSpPr/>
          <p:nvPr/>
        </p:nvSpPr>
        <p:spPr>
          <a:xfrm>
            <a:off x="5158440" y="6326280"/>
            <a:ext cx="27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44"/>
          <p:cNvSpPr/>
          <p:nvPr/>
        </p:nvSpPr>
        <p:spPr>
          <a:xfrm>
            <a:off x="5257800" y="6485040"/>
            <a:ext cx="3574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000000"/>
                </a:solidFill>
                <a:latin typeface="Arial"/>
              </a:rPr>
              <a:t>9° Censimento dell’industria e dei servizi e Censimento delle istituzioni non prof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1559880" y="6485040"/>
            <a:ext cx="3035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. Arbeitsstättenzählung und Zählung der Non-Profit-Organisatio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40"/>
          <p:cNvSpPr/>
          <p:nvPr/>
        </p:nvSpPr>
        <p:spPr>
          <a:xfrm>
            <a:off x="525780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63"/>
          <p:cNvSpPr/>
          <p:nvPr/>
        </p:nvSpPr>
        <p:spPr>
          <a:xfrm>
            <a:off x="428760" y="723960"/>
            <a:ext cx="37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65" descr="LW_Adler_4C_16x20"/>
          <p:cNvPicPr/>
          <p:nvPr/>
        </p:nvPicPr>
        <p:blipFill>
          <a:blip r:embed="rId2"/>
          <a:stretch/>
        </p:blipFill>
        <p:spPr>
          <a:xfrm>
            <a:off x="4718160" y="631044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" name="Grafik 12" descr=""/>
          <p:cNvPicPr/>
          <p:nvPr/>
        </p:nvPicPr>
        <p:blipFill>
          <a:blip r:embed="rId3"/>
          <a:stretch/>
        </p:blipFill>
        <p:spPr>
          <a:xfrm>
            <a:off x="0" y="0"/>
            <a:ext cx="88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5102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865080" y="45252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4994640" y="452520"/>
            <a:ext cx="39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95360" y="719280"/>
            <a:ext cx="2244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Istituto provinciale di statis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153880" y="719280"/>
            <a:ext cx="195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andesinstitut für Statisti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305000" y="1413000"/>
            <a:ext cx="654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9. Arbeitsstättenzählung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nd Zählung der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on-Profit-Organisati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3249360" y="2941560"/>
            <a:ext cx="26586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Juli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. Francesco Gos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687960" y="3789360"/>
            <a:ext cx="782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9° Censimento dell’industria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 dei servizi e Censimento delle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stituzioni non pro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3173040" y="5318280"/>
            <a:ext cx="2855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tt. Francesco Gos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936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5102280" y="635004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8" descr="LW_Adler_4C_20x25"/>
          <p:cNvPicPr/>
          <p:nvPr/>
        </p:nvPicPr>
        <p:blipFill>
          <a:blip r:embed="rId1"/>
          <a:stretch/>
        </p:blipFill>
        <p:spPr>
          <a:xfrm>
            <a:off x="4210200" y="358920"/>
            <a:ext cx="718920" cy="89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Abt8_Logo"/>
          <p:cNvPicPr/>
          <p:nvPr/>
        </p:nvPicPr>
        <p:blipFill>
          <a:blip r:embed="rId2"/>
          <a:stretch/>
        </p:blipFill>
        <p:spPr>
          <a:xfrm>
            <a:off x="4235400" y="6094440"/>
            <a:ext cx="684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filo d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 volo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368360" y="1440000"/>
            <a:ext cx="755964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7,5% dei volonta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 ha un‘occupazio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valore nazionale 55,4%), nel settore Sanità raggiungono l’85,6% (valore nazionale 51,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ettori dove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nsiona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cidono maggiormente rispetto 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 media provinciale (20,7%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: Cooperazione e solid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età internazionale (29,7%), Istruzione e ricerca (29%), Tutela dei diritti (27,7%), Assistenza sociale e protezione civile (25,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filo d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 volo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368360" y="1440000"/>
            <a:ext cx="75596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43,1% ha u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‘età compresa tra i 30 e 54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ore alla media nazionale il peso dei volontari fino ai 18 anni: 7,3% vs. 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vante il peso dei giovan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lla classe d‘età 19-29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nni nel settore San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à (30,3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368360" y="1440000"/>
            <a:ext cx="75596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lteriore analisi e esp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azione del ruolo del settore non profit in Alto A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orizzazio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l volontariato in termini economici e so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io delle relazioni e dell‘integrazione tra imprese, istituzioni pubbliche e istituzioni non profit nel garantire servizi e soddisfare le esigenze dell‘utente finale, nella prospettiva di sostenibilità ed equ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spettiv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826920" y="1989000"/>
            <a:ext cx="83170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azie per l‘attenzi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nke f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ür die Aufmerksamke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lan por le mëte averd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368360" y="1440000"/>
            <a:ext cx="73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ornire un quadro general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lle is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tituzioni non profit in provincia di Bolzano e del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uolo in termini economici e social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biettivo della pres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1368360" y="2160720"/>
            <a:ext cx="741672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e so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ali settori sono distribu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s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tribuiscono le risorse umane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1368360" y="360360"/>
            <a:ext cx="7559640" cy="9471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istituzioni non-profit in provi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 Bolz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9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1" descr=""/>
          <p:cNvPicPr/>
          <p:nvPr/>
        </p:nvPicPr>
        <p:blipFill>
          <a:blip r:embed="rId3"/>
          <a:stretch/>
        </p:blipFill>
        <p:spPr>
          <a:xfrm>
            <a:off x="1368360" y="1871640"/>
            <a:ext cx="7488360" cy="4896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1908000" y="189000"/>
            <a:ext cx="354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1368360" y="252360"/>
            <a:ext cx="7345440" cy="14047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i non profit e unità locali, per regione e ripartizione geografica - Censimenti 2011 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ori assoluti, Valori percentuali, incidenze percentuali e variazion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368360" y="360360"/>
            <a:ext cx="7559640" cy="14353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i non profit, unità locali e risorse umane (a) nella provincia di Bolzano/Bozen e in Italia - Censimenti 2011 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ori assoluti e variazion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1368360" y="2060640"/>
            <a:ext cx="75596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ma giuridica e destinatari dei servi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76360" y="1628640"/>
            <a:ext cx="700416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88,1% delle istituzioni non profit 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resentato da ASSOCI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variazione principale rispetto al 2011 è le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e ASSOCIAZIONI RICONOSCIUTE (+233,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67,2% delle istituzioni non profit è di pub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tà (solidaris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olidamento e strutturazione di un settore già svilup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368360" y="2160720"/>
            <a:ext cx="734544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8"/>
          <p:cNvSpPr/>
          <p:nvPr/>
        </p:nvSpPr>
        <p:spPr>
          <a:xfrm>
            <a:off x="1368360" y="360360"/>
            <a:ext cx="7559640" cy="14353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i non profit, per settore di attività prevalen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la provincia di Bolzano/Bozen e in Italia - Censi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11 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ori assoluti, composizione percentuale e variazion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8"/>
          <p:cNvSpPr/>
          <p:nvPr/>
        </p:nvSpPr>
        <p:spPr>
          <a:xfrm>
            <a:off x="2195640" y="765000"/>
            <a:ext cx="597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1368360" y="252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ruolo del volontar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1368360" y="107964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I volonta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ri rappresentano il 93,1% delle risorse umane (83,3% a livello nazional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Diagramm 7" descr=""/>
          <p:cNvPicPr/>
          <p:nvPr/>
        </p:nvPicPr>
        <p:blipFill>
          <a:blip r:embed="rId1"/>
          <a:stretch/>
        </p:blipFill>
        <p:spPr>
          <a:xfrm>
            <a:off x="1584360" y="2157480"/>
            <a:ext cx="709596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268360" y="2852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835280" y="404640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1368360" y="360360"/>
            <a:ext cx="7559640" cy="60192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ruolo del volontar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368360" y="1619280"/>
            <a:ext cx="755964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ontari registrano la variazione 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ù significativa rispetto a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012 volontari ogni 10.000 abi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mero medio di 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lontari per unità locale: 2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18:56Z</dcterms:created>
  <dc:creator>Lantschner Raimund</dc:creator>
  <dc:description/>
  <dc:language>en-US</dc:language>
  <cp:lastModifiedBy>Stauder, Renata Ruth</cp:lastModifiedBy>
  <dcterms:modified xsi:type="dcterms:W3CDTF">2014-11-05T15:03:42Z</dcterms:modified>
  <cp:revision>71</cp:revision>
  <dc:subject/>
  <dc:title>Vorlage Powerpoint</dc:title>
</cp:coreProperties>
</file>