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0822-D07E-4DD0-988B-2C49562722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72FF-C2AB-460B-ADAD-24732C020E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E34-0E37-4391-986F-9B6E461228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21BE-63C1-446F-96AB-5EC9EA599F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FE12-1495-485F-9C61-235F671EDA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AA4-EA6F-48F3-BD34-C14C0278F7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2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39"/>
          <p:cNvSpPr/>
          <p:nvPr/>
        </p:nvSpPr>
        <p:spPr>
          <a:xfrm>
            <a:off x="76032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2"/>
          <p:cNvSpPr/>
          <p:nvPr/>
        </p:nvSpPr>
        <p:spPr>
          <a:xfrm>
            <a:off x="2391840" y="6326280"/>
            <a:ext cx="224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43"/>
          <p:cNvSpPr/>
          <p:nvPr/>
        </p:nvSpPr>
        <p:spPr>
          <a:xfrm>
            <a:off x="5158440" y="6326280"/>
            <a:ext cx="271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44"/>
          <p:cNvSpPr/>
          <p:nvPr/>
        </p:nvSpPr>
        <p:spPr>
          <a:xfrm>
            <a:off x="5257800" y="6485040"/>
            <a:ext cx="3574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000000"/>
                </a:solidFill>
                <a:latin typeface="Arial"/>
              </a:rPr>
              <a:t>9° Censimento dell’industria e dei servizi e Censimento delle istituzioni non prof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1559880" y="6485040"/>
            <a:ext cx="30351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. Arbeitsstättenzählung und Zählung der Non-Profit-Organisation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40"/>
          <p:cNvSpPr/>
          <p:nvPr/>
        </p:nvSpPr>
        <p:spPr>
          <a:xfrm>
            <a:off x="525780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63"/>
          <p:cNvSpPr/>
          <p:nvPr/>
        </p:nvSpPr>
        <p:spPr>
          <a:xfrm>
            <a:off x="428760" y="723960"/>
            <a:ext cx="37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65" descr="LW_Adler_4C_16x20"/>
          <p:cNvPicPr/>
          <p:nvPr/>
        </p:nvPicPr>
        <p:blipFill>
          <a:blip r:embed="rId2"/>
          <a:stretch/>
        </p:blipFill>
        <p:spPr>
          <a:xfrm>
            <a:off x="4718160" y="631044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10" name="Grafik 12" descr=""/>
          <p:cNvPicPr/>
          <p:nvPr/>
        </p:nvPicPr>
        <p:blipFill>
          <a:blip r:embed="rId3"/>
          <a:stretch/>
        </p:blipFill>
        <p:spPr>
          <a:xfrm>
            <a:off x="0" y="0"/>
            <a:ext cx="882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9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5102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865080" y="45252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4994640" y="452520"/>
            <a:ext cx="396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995360" y="719280"/>
            <a:ext cx="2244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Istituto provinciale di statis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153880" y="719280"/>
            <a:ext cx="195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Landesinstitut für Statisti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1305000" y="1413000"/>
            <a:ext cx="6549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9. Arbeitsstättenzählung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und Zählung der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Non-Profit-Organisatio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549880" y="2941560"/>
            <a:ext cx="40730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Juli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hanna Plasinger, Timon Gä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687960" y="3789360"/>
            <a:ext cx="782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9° Censimento dell’industria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 dei servizi e Censimento delle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stituzioni non pro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2562480" y="5318280"/>
            <a:ext cx="40730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hanna Plasinger, Timon Gä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193680" y="635004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5102280" y="635004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8" descr="LW_Adler_4C_20x25"/>
          <p:cNvPicPr/>
          <p:nvPr/>
        </p:nvPicPr>
        <p:blipFill>
          <a:blip r:embed="rId1"/>
          <a:stretch/>
        </p:blipFill>
        <p:spPr>
          <a:xfrm>
            <a:off x="4210200" y="358920"/>
            <a:ext cx="718920" cy="89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Abt8_Logo"/>
          <p:cNvPicPr/>
          <p:nvPr/>
        </p:nvPicPr>
        <p:blipFill>
          <a:blip r:embed="rId2"/>
          <a:stretch/>
        </p:blipFill>
        <p:spPr>
          <a:xfrm>
            <a:off x="4235400" y="6094440"/>
            <a:ext cx="684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332000" y="260280"/>
            <a:ext cx="6480000" cy="8254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Durchführung der AZ in Südtirol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 rilevazione su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403280" y="1317600"/>
            <a:ext cx="172872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ganisatio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gan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1" descr=""/>
          <p:cNvPicPr/>
          <p:nvPr/>
        </p:nvPicPr>
        <p:blipFill>
          <a:blip r:embed="rId1"/>
          <a:stretch/>
        </p:blipFill>
        <p:spPr>
          <a:xfrm>
            <a:off x="1722600" y="1916280"/>
            <a:ext cx="69530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2016000" y="1774800"/>
            <a:ext cx="2519640" cy="107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403280" y="2517840"/>
            <a:ext cx="3060720" cy="93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. Arbeitsstättenzähl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HEBUNG DER UNTER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446800" y="1220040"/>
            <a:ext cx="3384360" cy="93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ZÄHLUNG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gister- und Verwaltungsdat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ULGI - ASIA - IN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440320" y="3790080"/>
            <a:ext cx="337968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ICHPROBENERHEBUNG WETTBEWERBSFÄHIGK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5508720" y="2205000"/>
            <a:ext cx="3348000" cy="3402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FORMATI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5472000" y="4438440"/>
            <a:ext cx="3348000" cy="3402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RHE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AutoShape 9"/>
          <p:cNvCxnSpPr>
            <a:stCxn id="73" idx="3"/>
            <a:endCxn id="74" idx="1"/>
          </p:cNvCxnSpPr>
          <p:nvPr/>
        </p:nvCxnSpPr>
        <p:spPr>
          <a:xfrm flipV="1">
            <a:off x="4464000" y="1686960"/>
            <a:ext cx="983520" cy="1299240"/>
          </a:xfrm>
          <a:prstGeom prst="bentConnector3">
            <a:avLst>
              <a:gd name="adj1" fmla="val 4990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AutoShape 10"/>
          <p:cNvCxnSpPr>
            <a:stCxn id="73" idx="3"/>
            <a:endCxn id="75" idx="1"/>
          </p:cNvCxnSpPr>
          <p:nvPr/>
        </p:nvCxnSpPr>
        <p:spPr>
          <a:xfrm>
            <a:off x="4464000" y="2986200"/>
            <a:ext cx="977040" cy="1092960"/>
          </a:xfrm>
          <a:prstGeom prst="bentConnector3">
            <a:avLst>
              <a:gd name="adj1" fmla="val 4990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Rectangle 11"/>
          <p:cNvSpPr/>
          <p:nvPr/>
        </p:nvSpPr>
        <p:spPr>
          <a:xfrm>
            <a:off x="611280" y="558972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1403280" y="5232600"/>
            <a:ext cx="7416720" cy="61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u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9. Arbeitsstättenzählung 2011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icht alle Unternehmen wurden befragt, sondern eine </a:t>
            </a:r>
            <a:r>
              <a:rPr b="0" lang="de-DE" sz="1400" spc="-1" strike="noStrike">
                <a:solidFill>
                  <a:srgbClr val="cc0000"/>
                </a:solidFill>
                <a:latin typeface="Arial"/>
              </a:rPr>
              <a:t>Stichprob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wurde ausgewähl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3" descr="Piktogramm"/>
          <p:cNvPicPr/>
          <p:nvPr/>
        </p:nvPicPr>
        <p:blipFill>
          <a:blip r:embed="rId1"/>
          <a:stretch/>
        </p:blipFill>
        <p:spPr>
          <a:xfrm>
            <a:off x="2484360" y="3530520"/>
            <a:ext cx="703440" cy="70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03280" y="379440"/>
            <a:ext cx="6480360" cy="4597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hebungsbereich und Method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3"/>
          <p:cNvSpPr/>
          <p:nvPr/>
        </p:nvSpPr>
        <p:spPr>
          <a:xfrm>
            <a:off x="1042920" y="2133720"/>
            <a:ext cx="2519280" cy="107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157400" cy="868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Piktogramm"/>
          <p:cNvPicPr/>
          <p:nvPr/>
        </p:nvPicPr>
        <p:blipFill>
          <a:blip r:embed="rId2"/>
          <a:stretch/>
        </p:blipFill>
        <p:spPr>
          <a:xfrm>
            <a:off x="2413080" y="4078440"/>
            <a:ext cx="557280" cy="55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iktogramm"/>
          <p:cNvPicPr/>
          <p:nvPr/>
        </p:nvPicPr>
        <p:blipFill>
          <a:blip r:embed="rId3"/>
          <a:stretch/>
        </p:blipFill>
        <p:spPr>
          <a:xfrm>
            <a:off x="1898640" y="4643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iktogramm"/>
          <p:cNvPicPr/>
          <p:nvPr/>
        </p:nvPicPr>
        <p:blipFill>
          <a:blip r:embed="rId4"/>
          <a:stretch/>
        </p:blipFill>
        <p:spPr>
          <a:xfrm>
            <a:off x="2475000" y="478800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Piktogramm"/>
          <p:cNvPicPr/>
          <p:nvPr/>
        </p:nvPicPr>
        <p:blipFill>
          <a:blip r:embed="rId5"/>
          <a:stretch/>
        </p:blipFill>
        <p:spPr>
          <a:xfrm>
            <a:off x="3060720" y="42940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iktogramm"/>
          <p:cNvPicPr/>
          <p:nvPr/>
        </p:nvPicPr>
        <p:blipFill>
          <a:blip r:embed="rId6"/>
          <a:stretch/>
        </p:blipFill>
        <p:spPr>
          <a:xfrm>
            <a:off x="3122640" y="500364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Piktogramm"/>
          <p:cNvPicPr/>
          <p:nvPr/>
        </p:nvPicPr>
        <p:blipFill>
          <a:blip r:embed="rId7"/>
          <a:stretch/>
        </p:blipFill>
        <p:spPr>
          <a:xfrm>
            <a:off x="5969160" y="4221000"/>
            <a:ext cx="556920" cy="5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Piktogramm"/>
          <p:cNvPicPr/>
          <p:nvPr/>
        </p:nvPicPr>
        <p:blipFill>
          <a:blip r:embed="rId8"/>
          <a:stretch/>
        </p:blipFill>
        <p:spPr>
          <a:xfrm>
            <a:off x="5454720" y="478620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Piktogramm"/>
          <p:cNvPicPr/>
          <p:nvPr/>
        </p:nvPicPr>
        <p:blipFill>
          <a:blip r:embed="rId9"/>
          <a:stretch/>
        </p:blipFill>
        <p:spPr>
          <a:xfrm>
            <a:off x="6031080" y="4930920"/>
            <a:ext cx="556920" cy="55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Piktogramm"/>
          <p:cNvPicPr/>
          <p:nvPr/>
        </p:nvPicPr>
        <p:blipFill>
          <a:blip r:embed="rId10"/>
          <a:stretch/>
        </p:blipFill>
        <p:spPr>
          <a:xfrm>
            <a:off x="3708360" y="4583160"/>
            <a:ext cx="557280" cy="557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1476360" y="3046320"/>
            <a:ext cx="2881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ternehm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is 19 Beschäftig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716360" y="3046320"/>
            <a:ext cx="2881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ternehm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it 20 und mehr Beschäftig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4068720" y="144612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5076720" y="562464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1.068 Ein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1908000" y="558972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2.266 Ein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2124000" y="1484280"/>
            <a:ext cx="2879640" cy="1152720"/>
            <a:chOff x="2124000" y="1484280"/>
            <a:chExt cx="2879640" cy="1152720"/>
          </a:xfrm>
        </p:grpSpPr>
        <p:sp>
          <p:nvSpPr>
            <p:cNvPr id="101" name="Rectangle 20"/>
            <p:cNvSpPr/>
            <p:nvPr/>
          </p:nvSpPr>
          <p:spPr>
            <a:xfrm>
              <a:off x="2124000" y="1484280"/>
              <a:ext cx="2879640" cy="11527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Picture 21" descr="Piktogramm"/>
            <p:cNvPicPr/>
            <p:nvPr/>
          </p:nvPicPr>
          <p:blipFill>
            <a:blip r:embed="rId11"/>
            <a:stretch/>
          </p:blipFill>
          <p:spPr>
            <a:xfrm>
              <a:off x="2286000" y="1773360"/>
              <a:ext cx="55728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22"/>
            <p:cNvSpPr/>
            <p:nvPr/>
          </p:nvSpPr>
          <p:spPr>
            <a:xfrm>
              <a:off x="2844720" y="1590840"/>
              <a:ext cx="20876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Arial"/>
                </a:rPr>
                <a:t>Stichprobenerhebung Wettbewerbsfähigkeit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3.334 Einh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Rectangle 23"/>
          <p:cNvSpPr/>
          <p:nvPr/>
        </p:nvSpPr>
        <p:spPr>
          <a:xfrm>
            <a:off x="1476360" y="4005360"/>
            <a:ext cx="28814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4716360" y="4005360"/>
            <a:ext cx="28814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1476360" y="3619440"/>
            <a:ext cx="2881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ichprobe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atifizierte Zufallsstichpro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4714920" y="3619440"/>
            <a:ext cx="2881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erhebung (al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7" descr="Abt8_Logo"/>
          <p:cNvPicPr/>
          <p:nvPr/>
        </p:nvPicPr>
        <p:blipFill>
          <a:blip r:embed="rId12"/>
          <a:srcRect l="0" t="0" r="0" b="24889"/>
          <a:stretch/>
        </p:blipFill>
        <p:spPr>
          <a:xfrm>
            <a:off x="5796000" y="1844640"/>
            <a:ext cx="684000" cy="432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8"/>
          <p:cNvSpPr/>
          <p:nvPr/>
        </p:nvSpPr>
        <p:spPr>
          <a:xfrm>
            <a:off x="6516720" y="1700280"/>
            <a:ext cx="27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gesamt Unternehm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üdtirol (2010): 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3.070 Einh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29"/>
          <p:cNvCxnSpPr>
            <a:stCxn id="84" idx="3"/>
            <a:endCxn id="103" idx="2"/>
          </p:cNvCxnSpPr>
          <p:nvPr/>
        </p:nvCxnSpPr>
        <p:spPr>
          <a:xfrm flipV="1">
            <a:off x="3561840" y="2565000"/>
            <a:ext cx="327960" cy="108720"/>
          </a:xfrm>
          <a:prstGeom prst="bentConnector2">
            <a:avLst/>
          </a:prstGeom>
          <a:ln w="0">
            <a:noFill/>
          </a:ln>
        </p:spPr>
      </p:cxnSp>
      <p:cxnSp>
        <p:nvCxnSpPr>
          <p:cNvPr id="111" name="AutoShape 30"/>
          <p:cNvCxnSpPr>
            <a:stCxn id="101" idx="2"/>
            <a:endCxn id="95" idx="0"/>
          </p:cNvCxnSpPr>
          <p:nvPr/>
        </p:nvCxnSpPr>
        <p:spPr>
          <a:xfrm rot="5400000">
            <a:off x="3035520" y="2518200"/>
            <a:ext cx="410040" cy="646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AutoShape 31"/>
          <p:cNvCxnSpPr>
            <a:stCxn id="101" idx="2"/>
            <a:endCxn id="96" idx="0"/>
          </p:cNvCxnSpPr>
          <p:nvPr/>
        </p:nvCxnSpPr>
        <p:spPr>
          <a:xfrm flipH="1" rot="16200000">
            <a:off x="4655160" y="1544400"/>
            <a:ext cx="41004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3" name="Oval 32"/>
          <p:cNvSpPr/>
          <p:nvPr/>
        </p:nvSpPr>
        <p:spPr>
          <a:xfrm>
            <a:off x="8388360" y="620640"/>
            <a:ext cx="64764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76360" y="260280"/>
            <a:ext cx="6048360" cy="8254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hebungsbereich und Methodik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403280" y="260280"/>
            <a:ext cx="6480360" cy="8254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zu untersuchende Grundgesamthei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'universo da cens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9"/>
          <p:cNvSpPr/>
          <p:nvPr/>
        </p:nvSpPr>
        <p:spPr>
          <a:xfrm>
            <a:off x="2124000" y="1268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 (Stichprobe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rese (campi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2124000" y="1844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n-Profit-Organisation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ituzioni non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1"/>
          <p:cNvSpPr/>
          <p:nvPr/>
        </p:nvSpPr>
        <p:spPr>
          <a:xfrm>
            <a:off x="2124000" y="2421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gesamt Einheit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tale 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2"/>
          <p:cNvSpPr/>
          <p:nvPr/>
        </p:nvSpPr>
        <p:spPr>
          <a:xfrm>
            <a:off x="1403280" y="1341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3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3"/>
          <p:cNvSpPr/>
          <p:nvPr/>
        </p:nvSpPr>
        <p:spPr>
          <a:xfrm>
            <a:off x="1403280" y="1916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.3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4"/>
          <p:cNvSpPr/>
          <p:nvPr/>
        </p:nvSpPr>
        <p:spPr>
          <a:xfrm>
            <a:off x="1403280" y="24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.7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403280" y="3141720"/>
            <a:ext cx="734544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pierfragebögen und Online ausfüllen möglich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estionario cartaceo e possibilità di compilazione 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7" descr=""/>
          <p:cNvPicPr/>
          <p:nvPr/>
        </p:nvPicPr>
        <p:blipFill>
          <a:blip r:embed="rId1"/>
          <a:stretch/>
        </p:blipFill>
        <p:spPr>
          <a:xfrm>
            <a:off x="1432080" y="3933720"/>
            <a:ext cx="7711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332000" y="260280"/>
            <a:ext cx="7488000" cy="70380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lauf der Fragebogenrückgabe - 2012 und 2013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damento della restituzione dei questionari - 2012 e 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401840" y="4653000"/>
            <a:ext cx="70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erstoss gegen die Auskunftspflicht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iolazione dell'obbligo di rispo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mmagine 2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264360" cy="3346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15"/>
          <p:cNvSpPr/>
          <p:nvPr/>
        </p:nvSpPr>
        <p:spPr>
          <a:xfrm>
            <a:off x="1908000" y="52293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ternehmen und Non-Profit-Organisationen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mprese e istituzioni non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6"/>
          <p:cNvSpPr/>
          <p:nvPr/>
        </p:nvSpPr>
        <p:spPr>
          <a:xfrm>
            <a:off x="1908000" y="573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Erhebungseinheiten (Durchschnitt in Italien 2,4%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le unità rilevate (media nazionale 2,4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70160" y="5300640"/>
          <a:ext cx="609480" cy="3049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227"/>
          <p:cNvSpPr/>
          <p:nvPr/>
        </p:nvSpPr>
        <p:spPr>
          <a:xfrm>
            <a:off x="1391400" y="58611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476360" y="260280"/>
            <a:ext cx="6480360" cy="8254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ückgabe der Fragebögen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nale di restituzione dei question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Grafik 1" descr=""/>
          <p:cNvPicPr/>
          <p:nvPr/>
        </p:nvPicPr>
        <p:blipFill>
          <a:blip r:embed="rId1"/>
          <a:stretch/>
        </p:blipFill>
        <p:spPr>
          <a:xfrm>
            <a:off x="1440000" y="1773360"/>
            <a:ext cx="738000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18:56Z</dcterms:created>
  <dc:creator>Lantschner Raimund</dc:creator>
  <dc:description/>
  <dc:language>en-US</dc:language>
  <cp:lastModifiedBy>Daniela DL. Lauriello</cp:lastModifiedBy>
  <dcterms:modified xsi:type="dcterms:W3CDTF">2014-12-04T16:11:46Z</dcterms:modified>
  <cp:revision>92</cp:revision>
  <dc:subject/>
  <dc:title>Vorlage Powerpoint</dc:title>
</cp:coreProperties>
</file>