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9F6D-CA52-4975-8FF1-27E77B2DF8B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8254-7CA1-4293-9774-3BBC5216CF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4317-7326-44C4-AD85-B8A3EBC24B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52578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2"/>
          <p:cNvSpPr/>
          <p:nvPr/>
        </p:nvSpPr>
        <p:spPr>
          <a:xfrm>
            <a:off x="0" y="52578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39"/>
          <p:cNvSpPr/>
          <p:nvPr/>
        </p:nvSpPr>
        <p:spPr>
          <a:xfrm>
            <a:off x="760320" y="6534000"/>
            <a:ext cx="37782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2"/>
          <p:cNvSpPr/>
          <p:nvPr/>
        </p:nvSpPr>
        <p:spPr>
          <a:xfrm>
            <a:off x="2391840" y="6326280"/>
            <a:ext cx="224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TONOME PROVINZ BOZEN - SÜDTI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43"/>
          <p:cNvSpPr/>
          <p:nvPr/>
        </p:nvSpPr>
        <p:spPr>
          <a:xfrm>
            <a:off x="5158440" y="6326280"/>
            <a:ext cx="271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ROVINCIA AUTONOMA DI BOLZANO - ALTO ADI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44"/>
          <p:cNvSpPr/>
          <p:nvPr/>
        </p:nvSpPr>
        <p:spPr>
          <a:xfrm>
            <a:off x="5257800" y="6485040"/>
            <a:ext cx="3574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000000"/>
                </a:solidFill>
                <a:latin typeface="Arial"/>
              </a:rPr>
              <a:t>9° Censimento dell’industria e dei servizi e Censimento delle istituzioni non prof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1559880" y="6485040"/>
            <a:ext cx="30351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9. Arbeitsstättenzählung und Zählung der Non-Profit-Organisation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40"/>
          <p:cNvSpPr/>
          <p:nvPr/>
        </p:nvSpPr>
        <p:spPr>
          <a:xfrm>
            <a:off x="5257800" y="6534000"/>
            <a:ext cx="37782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63"/>
          <p:cNvSpPr/>
          <p:nvPr/>
        </p:nvSpPr>
        <p:spPr>
          <a:xfrm>
            <a:off x="428760" y="723960"/>
            <a:ext cx="370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65" descr="LW_Adler_4C_16x20"/>
          <p:cNvPicPr/>
          <p:nvPr/>
        </p:nvPicPr>
        <p:blipFill>
          <a:blip r:embed="rId2"/>
          <a:stretch/>
        </p:blipFill>
        <p:spPr>
          <a:xfrm>
            <a:off x="4718160" y="6310440"/>
            <a:ext cx="360360" cy="449280"/>
          </a:xfrm>
          <a:prstGeom prst="rect">
            <a:avLst/>
          </a:prstGeom>
          <a:ln w="0">
            <a:noFill/>
          </a:ln>
        </p:spPr>
      </p:pic>
      <p:pic>
        <p:nvPicPr>
          <p:cNvPr id="10" name="Grafik 1" descr=""/>
          <p:cNvPicPr/>
          <p:nvPr/>
        </p:nvPicPr>
        <p:blipFill>
          <a:blip r:embed="rId3"/>
          <a:stretch/>
        </p:blipFill>
        <p:spPr>
          <a:xfrm>
            <a:off x="0" y="0"/>
            <a:ext cx="882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79280" y="71928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5102280" y="71928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865080" y="452520"/>
            <a:ext cx="32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NOME PROVINZ BOZEN - SÜDTI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4994640" y="452520"/>
            <a:ext cx="396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VINCIA AUTONOMA DI BOLZANO - ALTO A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995360" y="719280"/>
            <a:ext cx="2244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Istituto provinciale di statist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153880" y="719280"/>
            <a:ext cx="195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Landesinstitut für Statisti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1699920" y="1413000"/>
            <a:ext cx="576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500" spc="-1" strike="noStrike">
                <a:solidFill>
                  <a:srgbClr val="000000"/>
                </a:solidFill>
                <a:latin typeface="Arial"/>
              </a:rPr>
              <a:t>9. Arbeitsstättenzählung</a:t>
            </a:r>
            <a:br>
              <a:rPr sz="3500"/>
            </a:br>
            <a:r>
              <a:rPr b="1" lang="de-DE" sz="3500" spc="-1" strike="noStrike">
                <a:solidFill>
                  <a:srgbClr val="000000"/>
                </a:solidFill>
                <a:latin typeface="Arial"/>
              </a:rPr>
              <a:t>und Zählung der</a:t>
            </a:r>
            <a:br>
              <a:rPr sz="3500"/>
            </a:br>
            <a:r>
              <a:rPr b="1" lang="de-DE" sz="3500" spc="-1" strike="noStrike">
                <a:solidFill>
                  <a:srgbClr val="000000"/>
                </a:solidFill>
                <a:latin typeface="Arial"/>
              </a:rPr>
              <a:t>Non-Profit-Organisation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3764520" y="2997360"/>
            <a:ext cx="1623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4. Juli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tieri Mat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1164960" y="3789360"/>
            <a:ext cx="6872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Arial"/>
              </a:rPr>
              <a:t>9° Censimento dell’industria</a:t>
            </a:r>
            <a:br>
              <a:rPr sz="3500"/>
            </a:br>
            <a:r>
              <a:rPr b="1" lang="it-IT" sz="3500" spc="-1" strike="noStrike">
                <a:solidFill>
                  <a:srgbClr val="000000"/>
                </a:solidFill>
                <a:latin typeface="Arial"/>
              </a:rPr>
              <a:t>e dei servizi e Censimento delle</a:t>
            </a:r>
            <a:br>
              <a:rPr sz="3500"/>
            </a:br>
            <a:r>
              <a:rPr b="1" lang="it-IT" sz="3500" spc="-1" strike="noStrike">
                <a:solidFill>
                  <a:srgbClr val="000000"/>
                </a:solidFill>
                <a:latin typeface="Arial"/>
              </a:rPr>
              <a:t>istituzioni non profi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3715920" y="5373720"/>
            <a:ext cx="17658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4 luglio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ieri Mat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193680" y="642312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5102280" y="6423120"/>
            <a:ext cx="385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8" descr="LW_Adler_4C_20x25"/>
          <p:cNvPicPr/>
          <p:nvPr/>
        </p:nvPicPr>
        <p:blipFill>
          <a:blip r:embed="rId1"/>
          <a:stretch/>
        </p:blipFill>
        <p:spPr>
          <a:xfrm>
            <a:off x="4210200" y="358920"/>
            <a:ext cx="718920" cy="89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Abt8_Logo"/>
          <p:cNvPicPr/>
          <p:nvPr/>
        </p:nvPicPr>
        <p:blipFill>
          <a:blip r:embed="rId2"/>
          <a:stretch/>
        </p:blipFill>
        <p:spPr>
          <a:xfrm>
            <a:off x="4235400" y="6167520"/>
            <a:ext cx="684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Danke für die Aufmerksamkeit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 Grazie per l‘attenzione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Dilan por le mëte averda!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368360" y="360360"/>
          <a:ext cx="7561440" cy="109548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SIMENTO DELLE ISTITUZIONI PUBBLICHE 201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te </a:t>
                      </a: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Istat</a:t>
                      </a: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base a criteri giuridici ed economici (Forma giuridica e criteri del Sistema Europeo dei Conti SEC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368360" y="2268360"/>
          <a:ext cx="7524720" cy="2652840"/>
        </p:xfrm>
        <a:graphic>
          <a:graphicData uri="http://schemas.openxmlformats.org/drawingml/2006/table">
            <a:tbl>
              <a:tblPr/>
              <a:tblGrid>
                <a:gridCol w="3619440"/>
                <a:gridCol w="1171800"/>
                <a:gridCol w="1171440"/>
                <a:gridCol w="1562040"/>
              </a:tblGrid>
              <a:tr h="49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zion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TITUZIONI PUBBLICH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6,4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008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À LOCALI DELLE ISTITUZIONI PUBBLICH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8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27,9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ETTI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8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77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17,0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68360" y="360360"/>
          <a:ext cx="7596360" cy="1095480"/>
        </p:xfrm>
        <a:graphic>
          <a:graphicData uri="http://schemas.openxmlformats.org/drawingml/2006/table">
            <a:tbl>
              <a:tblPr/>
              <a:tblGrid>
                <a:gridCol w="759636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SIMENTO DELLE ISTITUZIONI PUBBLICHE 201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te da Istat in base a criteri giuridici ed economici (Forma giuridica e criteri del Sistema Europeo dei Conti SEC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368360" y="2268360"/>
          <a:ext cx="7596360" cy="3394080"/>
        </p:xfrm>
        <a:graphic>
          <a:graphicData uri="http://schemas.openxmlformats.org/drawingml/2006/table">
            <a:tbl>
              <a:tblPr/>
              <a:tblGrid>
                <a:gridCol w="7596360"/>
              </a:tblGrid>
              <a:tr h="36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AZION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ANO LE ISTITUZIONI PUBBLICH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7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rivatizzazione di </a:t>
                      </a:r>
                      <a:r>
                        <a:rPr b="1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iende Municipalizz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008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Alcune </a:t>
                      </a:r>
                      <a:r>
                        <a:rPr b="1" lang="it-IT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iende Pubbliche di Servizi alla Persona</a:t>
                      </a:r>
                      <a:br>
                        <a:rPr sz="2300"/>
                      </a:br>
                      <a:r>
                        <a:rPr b="0" lang="it-IT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APSP, ex IPAB) hanno assunto assetto privatistic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7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iduzione dei </a:t>
                      </a:r>
                      <a:r>
                        <a:rPr b="1" lang="it-IT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orzi</a:t>
                      </a:r>
                      <a:r>
                        <a:rPr b="0" lang="it-IT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munali e intercomunal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03280" y="1844640"/>
          <a:ext cx="7596360" cy="4340160"/>
        </p:xfrm>
        <a:graphic>
          <a:graphicData uri="http://schemas.openxmlformats.org/drawingml/2006/table">
            <a:tbl>
              <a:tblPr/>
              <a:tblGrid>
                <a:gridCol w="5697720"/>
                <a:gridCol w="1898640"/>
              </a:tblGrid>
              <a:tr h="3780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AZ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MENTANO LE UNITÀ LOCAL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27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 dato deriva dalle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tà comprensoriali</a:t>
                      </a:r>
                      <a:br>
                        <a:rPr sz="2400"/>
                      </a:b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ompetenze nel Sociale) e dai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ilevazione più mir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MENTANO GLI ADDET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523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scita nell‘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truzione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 nel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ociale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aggio di personale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lla Provincia e per ampliam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o dei servizi offerti alla popolazione (es. assistenz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Aumento dei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-time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circa + 5.000 unità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368360" y="360360"/>
          <a:ext cx="7596360" cy="1095480"/>
        </p:xfrm>
        <a:graphic>
          <a:graphicData uri="http://schemas.openxmlformats.org/drawingml/2006/table">
            <a:tbl>
              <a:tblPr/>
              <a:tblGrid>
                <a:gridCol w="759636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SIMENTO DELLE ISTITUZIONI PUBBLICHE 201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te da Istat in base a criteri giuridici ed economici (Forma giuridica e criteri del Sistema Europeo dei Conti SEC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368360" y="360360"/>
          <a:ext cx="7524720" cy="403200"/>
        </p:xfrm>
        <a:graphic>
          <a:graphicData uri="http://schemas.openxmlformats.org/drawingml/2006/table">
            <a:tbl>
              <a:tblPr/>
              <a:tblGrid>
                <a:gridCol w="7524720"/>
              </a:tblGrid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TITUZIONI PUBBLICHE A CONFRON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</a:tbl>
          </a:graphicData>
        </a:graphic>
      </p:graphicFrame>
      <p:pic>
        <p:nvPicPr>
          <p:cNvPr id="76" name="Grafik 1" descr=""/>
          <p:cNvPicPr/>
          <p:nvPr/>
        </p:nvPicPr>
        <p:blipFill>
          <a:blip r:embed="rId1"/>
          <a:stretch/>
        </p:blipFill>
        <p:spPr>
          <a:xfrm>
            <a:off x="1368360" y="1008000"/>
            <a:ext cx="7632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368360" y="360360"/>
          <a:ext cx="7596360" cy="403200"/>
        </p:xfrm>
        <a:graphic>
          <a:graphicData uri="http://schemas.openxmlformats.org/drawingml/2006/table">
            <a:tbl>
              <a:tblPr/>
              <a:tblGrid>
                <a:gridCol w="7596360"/>
              </a:tblGrid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SETTORI ECONOMIC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</a:tbl>
          </a:graphicData>
        </a:graphic>
      </p:graphicFrame>
      <p:pic>
        <p:nvPicPr>
          <p:cNvPr id="78" name="Grafik 1" descr=""/>
          <p:cNvPicPr/>
          <p:nvPr/>
        </p:nvPicPr>
        <p:blipFill>
          <a:blip r:embed="rId1"/>
          <a:stretch/>
        </p:blipFill>
        <p:spPr>
          <a:xfrm>
            <a:off x="1368360" y="1152360"/>
            <a:ext cx="7440840" cy="45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368360" y="360360"/>
          <a:ext cx="7596360" cy="403200"/>
        </p:xfrm>
        <a:graphic>
          <a:graphicData uri="http://schemas.openxmlformats.org/drawingml/2006/table">
            <a:tbl>
              <a:tblPr/>
              <a:tblGrid>
                <a:gridCol w="7596360"/>
              </a:tblGrid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AUTONOMA E COMUN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</a:tbl>
          </a:graphicData>
        </a:graphic>
      </p:graphicFrame>
      <p:pic>
        <p:nvPicPr>
          <p:cNvPr id="80" name="Grafik 1" descr=""/>
          <p:cNvPicPr/>
          <p:nvPr/>
        </p:nvPicPr>
        <p:blipFill>
          <a:blip r:embed="rId1"/>
          <a:stretch/>
        </p:blipFill>
        <p:spPr>
          <a:xfrm>
            <a:off x="1368360" y="1152360"/>
            <a:ext cx="7569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332000" y="1700280"/>
          <a:ext cx="7451640" cy="3085920"/>
        </p:xfrm>
        <a:graphic>
          <a:graphicData uri="http://schemas.openxmlformats.org/drawingml/2006/table">
            <a:tbl>
              <a:tblPr/>
              <a:tblGrid>
                <a:gridCol w="7451640"/>
              </a:tblGrid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Bef>
                          <a:spcPts val="1500"/>
                        </a:spcBef>
                        <a:spcAft>
                          <a:spcPts val="15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ano le 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tituzioni pubbliche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Alto Adige (-16%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Bef>
                          <a:spcPts val="1500"/>
                        </a:spcBef>
                        <a:spcAft>
                          <a:spcPts val="15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mento delle 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à locali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+28%)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 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etti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+17%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’ente 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Autonoma di Bolzano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 50% del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à locali e degli Addetti rilevati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Bef>
                          <a:spcPts val="1500"/>
                        </a:spcBef>
                        <a:spcAft>
                          <a:spcPts val="15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o 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o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l 2% delle Unità locali e degli addetti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</a:tbl>
          </a:graphicData>
        </a:graphic>
      </p:graphicFrame>
      <p:sp>
        <p:nvSpPr>
          <p:cNvPr id="82" name="Rectangle 60"/>
          <p:cNvSpPr/>
          <p:nvPr/>
        </p:nvSpPr>
        <p:spPr>
          <a:xfrm>
            <a:off x="900000" y="189000"/>
            <a:ext cx="7704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68360" y="360360"/>
          <a:ext cx="7596360" cy="403200"/>
        </p:xfrm>
        <a:graphic>
          <a:graphicData uri="http://schemas.openxmlformats.org/drawingml/2006/table">
            <a:tbl>
              <a:tblPr/>
              <a:tblGrid>
                <a:gridCol w="7596360"/>
              </a:tblGrid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ULTATI PRINCIPAL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332000" y="1484280"/>
          <a:ext cx="7451640" cy="3470400"/>
        </p:xfrm>
        <a:graphic>
          <a:graphicData uri="http://schemas.openxmlformats.org/drawingml/2006/table">
            <a:tbl>
              <a:tblPr/>
              <a:tblGrid>
                <a:gridCol w="7451640"/>
              </a:tblGrid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te impatto occupazionale della 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L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2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29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gli Addetti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 52% delle Unità locali e il 41% degli Addetti sono attiv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ll'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truzione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77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dotta incidenza dell'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ministrazione Generale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 delle UL </a:t>
                      </a: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23% degli Addetti</a:t>
                      </a: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1156680">
                <a:tc>
                  <a:txBody>
                    <a:bodyPr lIns="0" rIns="0" tIns="0" bIns="0" anchor="ctr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etti della Provincia attivi soprattutto nell’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truzi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7</a:t>
                      </a: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), quelli dei Comuni nell‘</a:t>
                      </a: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ministrazi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1280">
                        <a:lnSpc>
                          <a:spcPct val="115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e</a:t>
                      </a: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65%).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368360" y="360360"/>
          <a:ext cx="7596360" cy="403200"/>
        </p:xfrm>
        <a:graphic>
          <a:graphicData uri="http://schemas.openxmlformats.org/drawingml/2006/table">
            <a:tbl>
              <a:tblPr/>
              <a:tblGrid>
                <a:gridCol w="7596360"/>
              </a:tblGrid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ULTATI PRINCIPAL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18:56Z</dcterms:created>
  <dc:creator>Lantschner Raimund</dc:creator>
  <dc:description/>
  <dc:language>en-US</dc:language>
  <cp:lastModifiedBy>Stauder, Renata Ruth</cp:lastModifiedBy>
  <dcterms:modified xsi:type="dcterms:W3CDTF">2014-11-05T15:02:16Z</dcterms:modified>
  <cp:revision>109</cp:revision>
  <dc:subject/>
  <dc:title>Vorlage Powerpoint</dc:title>
</cp:coreProperties>
</file>