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EB94-D195-4779-9F82-EF43ACE59F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7C42-6275-4846-A476-CA3010ACBC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CD60-1F1D-410F-A539-1199DE3FD6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9C90-5684-4DBF-9BC3-29B0993F38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0DFB-E646-4851-9A98-0B3E5B5F139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FD58-AB11-441A-97AB-CDA99E0BAA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0D1D-8A1F-44B1-82F4-B2CB6B9903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28A4-55CA-4525-BB8C-9490CCC7B3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E2B5-B44F-4155-B3A2-32C05AA4B40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0CF6-6D02-48AB-9215-78B71CFC11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E29E-5F57-4C66-8FBE-958ED4A92E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650C-5646-4F20-8593-120F6EA1E6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265D-B4DC-47D3-9D4C-6E3EC7A9FB7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8CB0-7A4A-485E-B0F8-800E595647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9AEA-EE0B-4DCF-B16B-6C4BC8309F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80F8-AAC4-4D3C-A779-03F2C7422D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6D8EBB2E-67A4-4B78-97CD-081149DFEFC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15B564D-A2C1-42B2-8E00-A6917D3CB8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1EC3273-E157-4386-919C-9A8435A8DD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6CD49E79-C14F-4AFE-B883-EACB2BD3FB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6A1897A-8405-424F-A47A-9D03B25737C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CB904FC-4C63-418D-BC8A-0B87A21CC8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89E0E2F7-D44D-400E-B5F3-9749ACA0BA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C2D2C97-8BF2-43E4-ABED-05EF964D21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EFF4F55-043E-47CA-9A80-369931A7F8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4C48927D-DB5C-441C-87C4-59EDD94024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3EB3CBB-918C-49E8-921A-B417333AEE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209F59A-8763-4EEE-ACD8-2B81AEA075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7265CFE5-DCED-489A-B9CB-D82838FBE1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4027B05-718F-4422-A9D1-0A631FAB4D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DB4AFE3-9353-4BAF-BD43-6028911586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478275C0-ED4E-444A-933F-120A4AEDA3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B6880B8-6184-421E-9469-BFB14E47C8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6BD62C4-E129-437F-BF53-3F6E81813E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4B7A-1D3F-44A1-B982-E4E24925A8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14D1-D8E8-48E9-BF01-EF2B8C52C7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2C57-4691-40E4-8683-713FBF480F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F778-607B-48FF-A73A-C0D37FAFCB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380B-44B9-4F21-9A56-567FB0FA1C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7672-9FE3-482B-B6FD-FB9F67A19C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D971-B086-4E64-AE5F-DD91396D79D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FFD6-FFCD-4862-AA29-AE8B40B008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BA288-7F56-4413-B15D-F7CC423DF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6823-3FF8-45B8-9F42-0692E030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0D78D-5B48-41E7-BBB1-7B0DC0430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2FB2D-95D1-45C2-A100-0C69E3889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115FA-66A9-4769-8CA2-B15BA4A31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FDACD-D618-4530-B4DE-27F4EB71D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02D7E-6D97-4714-A163-16BE34BAA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E5BA4-BB6A-4736-A84D-6D733C7C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D1B5C-E0FA-47DA-8DF1-AA071B286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88925-4F36-41D0-9CB3-B36FB94E0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7BAFE-EFCA-4584-9547-66DCACDCF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0BF0A-B67D-461C-A315-D1A6DFFAE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C26F-3824-4455-9474-411F1D5B79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6012000" y="618480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Ancona,19 giugn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e Mar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43102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Direttore Centrale delle rilevazioni censuarie e dei registri statistici</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F0E6-7AFE-4645-9F39-44B71458C95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9802-225F-4E71-9EB4-D4A627E6F15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4B87-AFE0-485C-B0C2-5FEC2FA64E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BB34-7041-4151-8D0C-41E1071E20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E698-A8F7-4373-B9F8-E9C1BE6AEF2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7F33-7971-48F9-AC72-5F53F4D493D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2C54-8BEC-4906-B90D-1E85F044A86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FAB1-A6A9-4229-A656-BE5AF927F7D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5C67-880C-472C-848E-C316D7619FB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A237-DEBF-4739-933D-FCA1EB93E55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B024-D63B-4180-A72C-882E419A5B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A8BE-F66E-463C-8B7E-B580DD92AAA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E45E-0BC5-4611-A216-80AAAAA0ADE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300A-E471-4BA9-B94A-512FE1D07C5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3101-4DF0-4FF5-9823-5EABCC7417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2161-7679-45B1-9EF0-1596633901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3538440" cy="12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ttore Centrale delle rilevazioni censuarie e dei registri statistici,</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calzaro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A261-A6E3-4B79-9749-C5BA3520605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D80F-FD42-4DC7-A330-D52710B0CF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AF1F-B81C-4D54-9112-CB9206638F2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15CF-BC0C-4784-915C-08FE2917F5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B041-254B-40B0-9AE2-15928DD56A6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9B45-599F-4BB7-AE9C-38E23E7778C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3C7C-15AF-41A8-A422-AEF5E484D17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14T16:38:55Z</dcterms:modified>
  <cp:revision>212</cp:revision>
  <dc:subject/>
  <dc:title>Presentazione di PowerPoint</dc:title>
</cp:coreProperties>
</file>