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8746FF-4A17-41B2-B97A-76A792662F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6793DF-424F-48E6-83AA-AAA35C3D59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3F8D7C-B866-4A26-B663-0F0318A34D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6B69AF-E91C-4F51-8F9C-6E7BE153A4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EE22DC-A6B5-495C-BC52-B3CADA9EA8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9A3742-EF9B-4CD8-A802-2AC4E9CBA3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20D9F4-77F1-4046-8B4A-E5520DB4985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D426F5-B764-4434-8B84-2F91778B67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5ABFFE-1315-4AC6-8906-52A3991E55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B1AFF2A-1F82-4E2E-BA85-1E14C2E6A6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AB6183-2D88-4485-8BBA-04998DEC34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2D67BF-0E61-4DE0-AA5A-D34A081E17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9C52F6C-A7DD-4222-A0F4-402991308B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10B847A-CFA0-4659-ADCF-79FC1AD97F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EDAB3D-550C-4C13-A54C-CDC264F4DD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DDC4C8-AC00-44D2-AE44-AB2D19B722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2E8700-7F5D-4876-AAEE-908D0001A9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6462ED4-5FA6-449E-A0A7-6E98FC3D7D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7D87B4-CCDB-4D4B-A1BF-998BEAA7AC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2640" y="9720360"/>
            <a:ext cx="3076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764A2C-469C-4CB5-8830-716A616DC1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ED016D-FE90-4493-88F4-DE2746927E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BE90DA-2B5F-45E9-B9B6-639697B8FD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FE04E0-6CFC-49FC-B6D1-CB55863518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264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02D580-012E-4D43-9F59-D58C0093C1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FC1-665B-4F68-9C6D-B04C7710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77E-7A66-4A56-801F-09FFBB7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AE5-43E4-4A12-BCC0-32212477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F14-4C61-4C95-AC4E-17ADA373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53A-36BD-4BF6-A2D7-A2A049F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C3A-2AFE-4A44-A028-8C658370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B3C-1440-4970-AC43-D6D7D813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0C3-E5C8-4232-9250-3CF9DA5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3CB-8FB9-418A-A9DF-1541B91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54B-EA24-4C20-97E1-A9DF7B4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E36-69F8-4980-9DF9-3206B9F8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4B2-4A94-460F-A45C-5C96A84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DBC7-50D1-4F19-93C8-D65BC5CB23C8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1E3C-B26C-40BA-9EE8-3AECC4D7DE7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527F-8F01-492E-A756-55854EE3F49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476280"/>
            <a:ext cx="8288280" cy="504036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780000" y="263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e indagin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743280" y="1020600"/>
            <a:ext cx="37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9°Censimento dell’industria e dei 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e Censimento delle Istituzioni non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Check-up dell’Emilia Roma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lla luce dei dati censu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3780000" y="4292640"/>
            <a:ext cx="4679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urier New"/>
              </a:rPr>
              <a:t>Roberta Piergiovanni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ourier New"/>
              </a:rPr>
              <a:t>Ufficio territoriale per l’Emilia-Romagna e Marc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urier New"/>
              </a:rPr>
              <a:t>I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72EB-1B70-4862-AA8B-96FB2905521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505320" y="29415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dagine di valutazione del 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AF73-A29A-42CE-A558-A1A327DDDE6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468360" y="26028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’indagine di valutazione IValC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95280" y="981000"/>
            <a:ext cx="8280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eriod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5-21 febbraio 201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Rete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edi territoriali Ist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Unità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UP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Metodologi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questionario di auto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omministrato con modalità CAW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Oggetto di rilevazione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soddisfazione delle operazioni censuarie, dell’organizzazione, della formazione e assistenza ricevuta, delle innovazioni introdotte; efficacia dei questionari di rilevazione e dei materiali di supporto; adeguatezza di SGR; interesse e futuro coinvolgimento dell’Ente nei confronti del C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Tasso di risposta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: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B62-40B8-49AE-A49A-B2B8D980DC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8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505480" cy="45802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755640" y="333360"/>
            <a:ext cx="7993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mappa degli UPC per carico di unità di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06" name="CasellaDiTesto 6"/>
          <p:cNvSpPr/>
          <p:nvPr/>
        </p:nvSpPr>
        <p:spPr>
          <a:xfrm>
            <a:off x="5940360" y="285264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L’Emilia-Romagna appartiene al secondo terzile (5.380-7.08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6"/>
          <p:cNvSpPr/>
          <p:nvPr/>
        </p:nvSpPr>
        <p:spPr>
          <a:xfrm>
            <a:off x="5940360" y="3789360"/>
            <a:ext cx="2664000" cy="7333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Gli UPC del terzile medio hanno manifestato in generale una soddisfazione maggi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sellaDiTesto 6"/>
          <p:cNvSpPr/>
          <p:nvPr/>
        </p:nvSpPr>
        <p:spPr>
          <a:xfrm>
            <a:off x="5940360" y="1125360"/>
            <a:ext cx="2664000" cy="11595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istribuzione in terzili per unità di rilevazione  complessive (imprese e non profi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515-B86B-421A-BDC9-F88E2EF823E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08000" y="1733400"/>
            <a:ext cx="4753080" cy="3495960"/>
          </a:xfrm>
          <a:prstGeom prst="rect">
            <a:avLst/>
          </a:prstGeom>
          <a:ln w="0">
            <a:noFill/>
          </a:ln>
        </p:spPr>
      </p:pic>
      <p:sp>
        <p:nvSpPr>
          <p:cNvPr id="21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14" name="CasellaDiTesto 10"/>
          <p:cNvSpPr/>
          <p:nvPr/>
        </p:nvSpPr>
        <p:spPr>
          <a:xfrm>
            <a:off x="179280" y="5157720"/>
            <a:ext cx="871236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 tutte le aree territoriali prese a riferimento, il grado di soddisfazione per la rilevazione sulle imprese è mediamente maggiore rispetto a quello del censimento del non profit; inoltre, i giudizi per l’Emilia-Romagna sono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più favorevoli rispetto a quelli medi della ripartizione di appartenenza e dell’Itali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complesso.  Inoltre, </a:t>
            </a:r>
            <a:r>
              <a:rPr b="1" lang="it-IT" sz="1000" spc="-1" strike="noStrike">
                <a:solidFill>
                  <a:srgbClr val="00b050"/>
                </a:solidFill>
                <a:latin typeface="Arial"/>
              </a:rPr>
              <a:t>il grado di soddisfazione degli operatori degli UPC è superiore al dato nazion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in riferimento ai coordinator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rilevazioni e pers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11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le rilevazioni: imprese e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859280" y="90792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Grado di soddisfazione per il personale impe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0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43923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194-0E00-46BA-944A-16417F060ED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24" name="CasellaDiTesto 11"/>
          <p:cNvSpPr/>
          <p:nvPr/>
        </p:nvSpPr>
        <p:spPr>
          <a:xfrm>
            <a:off x="73080" y="5157720"/>
            <a:ext cx="903600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iudizio sul grado di adeguatezza degli UPC sugli aspetti organizzativi conferma per l’Emilia-Romagna valutazioni sostanzialmente favorevoli, facendo registrare un giudizio pari a 5,1 per l’organizzazione generale che, tuttavia, è inferiore sia alla media della ripartizione (5,3) sia a quella nazionale (5,3). Tra gli aspetti organizzativi giudicati più favorevolmente emergono la numerosità dei coordinatori (6,0) e l’organizzazione dello sportello di accettazione (5,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2"/>
          <a:stretch/>
        </p:blipFill>
        <p:spPr>
          <a:xfrm>
            <a:off x="0" y="549360"/>
            <a:ext cx="8943840" cy="465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petti organizz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e 9"/>
          <p:cNvSpPr/>
          <p:nvPr/>
        </p:nvSpPr>
        <p:spPr>
          <a:xfrm>
            <a:off x="226836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e 9"/>
          <p:cNvSpPr/>
          <p:nvPr/>
        </p:nvSpPr>
        <p:spPr>
          <a:xfrm>
            <a:off x="2268360" y="4724280"/>
            <a:ext cx="287640" cy="2872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e 9"/>
          <p:cNvSpPr/>
          <p:nvPr/>
        </p:nvSpPr>
        <p:spPr>
          <a:xfrm>
            <a:off x="2268360" y="386064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e 9"/>
          <p:cNvSpPr/>
          <p:nvPr/>
        </p:nvSpPr>
        <p:spPr>
          <a:xfrm>
            <a:off x="4643280" y="1989000"/>
            <a:ext cx="28764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e 9"/>
          <p:cNvSpPr/>
          <p:nvPr/>
        </p:nvSpPr>
        <p:spPr>
          <a:xfrm>
            <a:off x="5580000" y="1989000"/>
            <a:ext cx="287280" cy="2876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0" y="198900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0" y="3860640"/>
            <a:ext cx="8893080" cy="28764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0" y="4653000"/>
            <a:ext cx="8893080" cy="287280"/>
          </a:xfrm>
          <a:prstGeom prst="rect">
            <a:avLst/>
          </a:prstGeom>
          <a:solidFill>
            <a:srgbClr val="d8fa0a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FE71-CAB0-438D-BAC7-C693F5CB8E5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11"/>
          <p:cNvSpPr/>
          <p:nvPr/>
        </p:nvSpPr>
        <p:spPr>
          <a:xfrm>
            <a:off x="108000" y="5084640"/>
            <a:ext cx="8856720" cy="55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l grado di soddisfazione degli UPC nei confronti della formazione ricevuta riflette una valutazione abbastanza positiva per l’Emilia-Romagna, pari a 4,3, in linea al giudizio medio della ripartizione Nord (4,3) e inferiore a quello mediamente espresso su base nazionale (4,6). Tra le aree della formazione, raccoglie i consensi più favorevoli quella relativa alle istruzioni sulle modalità di compilazione dei questionari impre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"/>
          <p:cNvPicPr/>
          <p:nvPr/>
        </p:nvPicPr>
        <p:blipFill>
          <a:blip r:embed="rId2"/>
          <a:stretch/>
        </p:blipFill>
        <p:spPr>
          <a:xfrm>
            <a:off x="158760" y="549360"/>
            <a:ext cx="8877240" cy="4476600"/>
          </a:xfrm>
          <a:prstGeom prst="rect">
            <a:avLst/>
          </a:prstGeom>
          <a:ln w="0">
            <a:noFill/>
          </a:ln>
        </p:spPr>
      </p:pic>
      <p:sp>
        <p:nvSpPr>
          <p:cNvPr id="242" name="Ovale 9"/>
          <p:cNvSpPr/>
          <p:nvPr/>
        </p:nvSpPr>
        <p:spPr>
          <a:xfrm>
            <a:off x="255600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e 9"/>
          <p:cNvSpPr/>
          <p:nvPr/>
        </p:nvSpPr>
        <p:spPr>
          <a:xfrm>
            <a:off x="2556000" y="386064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e 9"/>
          <p:cNvSpPr/>
          <p:nvPr/>
        </p:nvSpPr>
        <p:spPr>
          <a:xfrm>
            <a:off x="2627280" y="465300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e 9"/>
          <p:cNvSpPr/>
          <p:nvPr/>
        </p:nvSpPr>
        <p:spPr>
          <a:xfrm>
            <a:off x="5148360" y="198900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BB0-9F21-44A5-B3C4-7D9F95FABBA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067440" cy="4800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53" name="CasellaDiTesto 8"/>
          <p:cNvSpPr/>
          <p:nvPr/>
        </p:nvSpPr>
        <p:spPr>
          <a:xfrm>
            <a:off x="250920" y="5373720"/>
            <a:ext cx="83516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a media nazionale con l’eccezione della tempestività dell’URC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assistenza ricev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F8B-B016-4C06-9C24-0510DEE37A2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0" y="333360"/>
            <a:ext cx="8886960" cy="5133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4"/>
          <p:cNvSpPr/>
          <p:nvPr/>
        </p:nvSpPr>
        <p:spPr>
          <a:xfrm>
            <a:off x="468360" y="11592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innov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11"/>
          <p:cNvSpPr/>
          <p:nvPr/>
        </p:nvSpPr>
        <p:spPr>
          <a:xfrm>
            <a:off x="108000" y="5445000"/>
            <a:ext cx="871380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f0"/>
                </a:solidFill>
                <a:latin typeface="Arial"/>
              </a:rPr>
              <a:t>Particolare apprezzamento per la presenza di rilevatori esterni, per contro rispetto alla media nazionale meno apprezzato è stato l’utilizzo delle liste precensuar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e 9"/>
          <p:cNvSpPr/>
          <p:nvPr/>
        </p:nvSpPr>
        <p:spPr>
          <a:xfrm>
            <a:off x="687708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e 9"/>
          <p:cNvSpPr/>
          <p:nvPr/>
        </p:nvSpPr>
        <p:spPr>
          <a:xfrm>
            <a:off x="3132000" y="2276640"/>
            <a:ext cx="503280" cy="288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92F-986A-42F4-9D24-6BCA245981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7"/>
          <p:cNvGraphicFramePr/>
          <p:nvPr/>
        </p:nvGraphicFramePr>
        <p:xfrm>
          <a:off x="0" y="260280"/>
          <a:ext cx="500364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500364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6"/>
          <p:cNvGraphicFramePr/>
          <p:nvPr/>
        </p:nvGraphicFramePr>
        <p:xfrm>
          <a:off x="4487760" y="189000"/>
          <a:ext cx="4656240" cy="515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7760" y="189000"/>
                    <a:ext cx="46562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Immagine 15" descr="logo_censimento_istat_payoff.jpg"/>
          <p:cNvPicPr/>
          <p:nvPr/>
        </p:nvPicPr>
        <p:blipFill>
          <a:blip r:embed="rId5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9"/>
          <p:cNvSpPr/>
          <p:nvPr/>
        </p:nvSpPr>
        <p:spPr>
          <a:xfrm>
            <a:off x="395280" y="5229360"/>
            <a:ext cx="849636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’apprezzamento per l’utilizzo delle diverse innovazioni è sempre inferiore al valore medio nazio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In Emilia-Romagna l’innovazione maggiormente apprezzata è stata la restituzione multicanale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95280" y="189000"/>
            <a:ext cx="828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cc0000"/>
                </a:solidFill>
                <a:latin typeface="Arial"/>
              </a:rPr>
              <a:t>Principali risultati – IValCens: </a:t>
            </a: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grado di utilità delle inno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39640" y="407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859280" y="40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90EA-38A7-42A4-BBB6-5256F82D054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12"/>
          <p:cNvGraphicFramePr/>
          <p:nvPr/>
        </p:nvGraphicFramePr>
        <p:xfrm>
          <a:off x="4392720" y="1268280"/>
          <a:ext cx="475128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1268280"/>
                    <a:ext cx="475128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Immagine 15" descr="logo_censimento_istat_payoff.jpg"/>
          <p:cNvPicPr/>
          <p:nvPr/>
        </p:nvPicPr>
        <p:blipFill>
          <a:blip r:embed="rId3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85" name="CasellaDiTesto 9"/>
          <p:cNvSpPr/>
          <p:nvPr/>
        </p:nvSpPr>
        <p:spPr>
          <a:xfrm>
            <a:off x="395280" y="5229360"/>
            <a:ext cx="8353440" cy="4287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Valutazioni generalmente in linea con le medie nazionali, con l’eccezione di una maggiore chiarezza per gli aspetti del mercato per la rilevazione delle impre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contenuti informativi del questio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4"/>
          <p:cNvGraphicFramePr/>
          <p:nvPr/>
        </p:nvGraphicFramePr>
        <p:xfrm>
          <a:off x="0" y="981000"/>
          <a:ext cx="4705200" cy="3621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89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981000"/>
                    <a:ext cx="47052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15"/>
          <p:cNvSpPr/>
          <p:nvPr/>
        </p:nvSpPr>
        <p:spPr>
          <a:xfrm>
            <a:off x="1547640" y="4724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651640" y="472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a0a20"/>
                </a:solidFill>
                <a:latin typeface="Arial"/>
              </a:rPr>
              <a:t>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9C10-1A42-49CA-967F-5D3F2FC46A9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11280" y="54936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Somm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332000" y="1484280"/>
            <a:ext cx="6696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rocesso di rilevazione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rganizzazione della rete di rilevaz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Innovazioni di metodo e tecnich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pedizion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Restituzione dei questionari compil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Indagine di valutazione del processo di rile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5000"/>
              </a:lnSpc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ntesi dei risult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187280" y="981000"/>
            <a:ext cx="6121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a0a20"/>
                </a:solidFill>
                <a:latin typeface="Arial"/>
              </a:rPr>
              <a:t>Censimento imprese e istituzioni non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171-1C11-4F51-8423-BB0F5B38B97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734080" cy="4591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297" name="CasellaDiTesto 11"/>
          <p:cNvSpPr/>
          <p:nvPr/>
        </p:nvSpPr>
        <p:spPr>
          <a:xfrm>
            <a:off x="179280" y="5445000"/>
            <a:ext cx="878544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ai valori medi nazionali, ma superiori alla media di ripartizion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68360" y="333360"/>
            <a:ext cx="835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chiarezza dei materiali di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B0C9-4294-49F3-A057-20A3C15F7A5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04" name="CasellaDiTesto 11"/>
          <p:cNvSpPr/>
          <p:nvPr/>
        </p:nvSpPr>
        <p:spPr>
          <a:xfrm>
            <a:off x="395280" y="5535720"/>
            <a:ext cx="8352000" cy="2613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b050"/>
                </a:solidFill>
                <a:latin typeface="Arial"/>
              </a:rPr>
              <a:t>Valutazioni più basse delle medie nazionali, in particolare per quanto riguarda il sistema SGR e la funzione di che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32400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– IValCens: grado di adeguatezza di SGR come supporto alla rile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698328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497D-A933-4C64-AC62-628C9143713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468360" y="105264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4"/>
          <p:cNvSpPr/>
          <p:nvPr/>
        </p:nvSpPr>
        <p:spPr>
          <a:xfrm>
            <a:off x="539640" y="189000"/>
            <a:ext cx="8352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risultati - IValC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539640" y="6206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Grado d’interesse dell’Ente camerale nei confronti del CIS e grado di utilità del coinvolgimento dell’Ente nelle future rilevazioni censuarie*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(valori medi nella scala da 1 = minimo a 6 =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95280" y="5445000"/>
            <a:ext cx="81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* La dimensione delle bolle è proporzionale al numero medio di unità per UPC nell’ambito delle reg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50920" y="1628640"/>
          <a:ext cx="8281800" cy="3440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628640"/>
                    <a:ext cx="828180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629-1CD4-4C35-A6D0-00EC04A2CD5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4"/>
          <p:cNvSpPr/>
          <p:nvPr/>
        </p:nvSpPr>
        <p:spPr>
          <a:xfrm>
            <a:off x="3348000" y="1557360"/>
            <a:ext cx="410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Grazie per l’attenzi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3419640" y="3284640"/>
            <a:ext cx="4032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Roberta Piergiovan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Ufficio territoriale per l’Emilia-Romagna e Mar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piergiov@istat.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ECC8-90AA-4ECF-811D-B08DEEFE0B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magine 1" descr="logo_censimento_istat_payoff.jpg"/>
          <p:cNvPicPr/>
          <p:nvPr/>
        </p:nvPicPr>
        <p:blipFill>
          <a:blip r:embed="rId1"/>
          <a:stretch/>
        </p:blipFill>
        <p:spPr>
          <a:xfrm>
            <a:off x="457200" y="5911920"/>
            <a:ext cx="2817720" cy="830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57200" y="2895480"/>
            <a:ext cx="8288280" cy="1295640"/>
          </a:xfrm>
          <a:prstGeom prst="rect">
            <a:avLst/>
          </a:prstGeom>
          <a:solidFill>
            <a:srgbClr val="ca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505320" y="3124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cesso di rilevazione censuaria di imprese e istituzioni non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251F-D88A-47BE-B645-0AB5FE9B54A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68360" y="692280"/>
            <a:ext cx="8435880" cy="497196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260.110 impre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481.473 non pro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H="1">
            <a:off x="3781440" y="3573360"/>
            <a:ext cx="3843360" cy="968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39640" y="260280"/>
            <a:ext cx="741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nazion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74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8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 Regionali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66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0"/>
          <p:cNvSpPr/>
          <p:nvPr/>
        </p:nvSpPr>
        <p:spPr>
          <a:xfrm flipH="1">
            <a:off x="3251160" y="3857760"/>
            <a:ext cx="2379600" cy="11397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6"/>
          <p:cNvSpPr/>
          <p:nvPr/>
        </p:nvSpPr>
        <p:spPr>
          <a:xfrm flipH="1" flipV="1">
            <a:off x="4940280" y="3196800"/>
            <a:ext cx="636480" cy="520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4"/>
          <p:cNvSpPr/>
          <p:nvPr/>
        </p:nvSpPr>
        <p:spPr>
          <a:xfrm>
            <a:off x="3165480" y="22845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2470320" y="3857760"/>
            <a:ext cx="2568240" cy="9745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651640" y="4149720"/>
            <a:ext cx="3168360" cy="13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di </a:t>
            </a:r>
            <a:r>
              <a:rPr b="1" lang="it-IT" sz="1800" spc="-1" strike="noStrike">
                <a:solidFill>
                  <a:srgbClr val="ca0a20"/>
                </a:solidFill>
                <a:latin typeface="Arial"/>
                <a:ea typeface="ヒラギノ角ゴ Pro W3"/>
              </a:rPr>
              <a:t>2.917 operat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7f7f7f"/>
                </a:solidFill>
                <a:latin typeface="Arial"/>
              </a:rPr>
              <a:t>Media questionari per operatore 3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5200200" y="4959360"/>
            <a:ext cx="45252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098880" y="42530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03280" y="3573720"/>
            <a:ext cx="26622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 UNIONCAMER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137120" y="3564000"/>
            <a:ext cx="199224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461280" y="2906640"/>
            <a:ext cx="232560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ervizi di statistica delle Province autonome di Trento e 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785880" cy="31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461280" y="1081080"/>
            <a:ext cx="785520" cy="312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222720" y="2557440"/>
            <a:ext cx="1866960" cy="500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596880" y="826920"/>
            <a:ext cx="8223120" cy="1378080"/>
          </a:xfrm>
          <a:prstGeom prst="rect">
            <a:avLst/>
          </a:prstGeom>
          <a:noFill/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23E-2508-47EE-9591-26F961ADCF5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539640" y="620640"/>
            <a:ext cx="8436240" cy="4971960"/>
          </a:xfrm>
          <a:prstGeom prst="rect">
            <a:avLst/>
          </a:prstGeom>
          <a:solidFill>
            <a:srgbClr val="d8fa0a">
              <a:alpha val="54000"/>
            </a:srgbClr>
          </a:solidFill>
          <a:ln w="255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37.905 im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ca0a20"/>
                </a:solidFill>
                <a:latin typeface="Arial"/>
              </a:rPr>
              <a:t>24.255 non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755640" y="189000"/>
            <a:ext cx="7201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te di rilevazione in Emilia-Romag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98" name="Oval 24"/>
          <p:cNvSpPr/>
          <p:nvPr/>
        </p:nvSpPr>
        <p:spPr>
          <a:xfrm>
            <a:off x="5372280" y="836640"/>
            <a:ext cx="3414600" cy="1341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Ufficio Regionale di Cens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3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i Istat 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287960" y="1930320"/>
            <a:ext cx="0" cy="495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2870280" y="3096720"/>
            <a:ext cx="662040" cy="476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4"/>
          <p:cNvSpPr/>
          <p:nvPr/>
        </p:nvSpPr>
        <p:spPr>
          <a:xfrm>
            <a:off x="3132000" y="2349360"/>
            <a:ext cx="2243160" cy="10461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2627280" y="3860640"/>
            <a:ext cx="2568600" cy="9748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203640" y="4076640"/>
            <a:ext cx="2160360" cy="885600"/>
          </a:xfrm>
          <a:prstGeom prst="rect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ffici Provinci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i Cens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11280" y="3499560"/>
            <a:ext cx="1511280" cy="459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NIONCAMERE Emilia-Ro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4"/>
          <p:cNvSpPr/>
          <p:nvPr/>
        </p:nvSpPr>
        <p:spPr>
          <a:xfrm>
            <a:off x="3130560" y="1081080"/>
            <a:ext cx="2241720" cy="1044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ooter"/>
          <p:cNvPicPr/>
          <p:nvPr/>
        </p:nvPicPr>
        <p:blipFill>
          <a:blip r:embed="rId2"/>
          <a:srcRect l="0" t="21821" r="88210" b="0"/>
          <a:stretch/>
        </p:blipFill>
        <p:spPr>
          <a:xfrm>
            <a:off x="3894120" y="1417680"/>
            <a:ext cx="89388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footer"/>
          <p:cNvPicPr/>
          <p:nvPr/>
        </p:nvPicPr>
        <p:blipFill>
          <a:blip r:embed="rId3"/>
          <a:srcRect l="0" t="21821" r="88210" b="0"/>
          <a:stretch/>
        </p:blipFill>
        <p:spPr>
          <a:xfrm>
            <a:off x="6589800" y="981000"/>
            <a:ext cx="93492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ooter"/>
          <p:cNvPicPr/>
          <p:nvPr/>
        </p:nvPicPr>
        <p:blipFill>
          <a:blip r:embed="rId4"/>
          <a:srcRect l="83107" t="20018" r="0" b="4599"/>
          <a:stretch/>
        </p:blipFill>
        <p:spPr>
          <a:xfrm>
            <a:off x="3132000" y="2620800"/>
            <a:ext cx="1944720" cy="52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611280" y="765000"/>
            <a:ext cx="8223120" cy="1522440"/>
          </a:xfrm>
          <a:prstGeom prst="rect">
            <a:avLst/>
          </a:prstGeom>
          <a:noFill/>
          <a:ln w="25560">
            <a:solidFill>
              <a:srgbClr val="ca0a2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6" descr=""/>
          <p:cNvPicPr/>
          <p:nvPr/>
        </p:nvPicPr>
        <p:blipFill>
          <a:blip r:embed="rId5"/>
          <a:stretch/>
        </p:blipFill>
        <p:spPr>
          <a:xfrm>
            <a:off x="7020000" y="2997360"/>
            <a:ext cx="657000" cy="2304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1979640" y="5373720"/>
            <a:ext cx="5688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ca0a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7f7f7f"/>
                </a:solidFill>
                <a:latin typeface="Arial"/>
                <a:ea typeface="ヒラギノ角ゴ Pro W3"/>
              </a:rPr>
              <a:t>Esecuzione delle operazioni censuarie e coordina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"/>
          <p:cNvPicPr/>
          <p:nvPr/>
        </p:nvPicPr>
        <p:blipFill>
          <a:blip r:embed="rId6"/>
          <a:stretch/>
        </p:blipFill>
        <p:spPr>
          <a:xfrm>
            <a:off x="7740720" y="2567160"/>
            <a:ext cx="1085760" cy="27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9" descr=""/>
          <p:cNvPicPr/>
          <p:nvPr/>
        </p:nvPicPr>
        <p:blipFill>
          <a:blip r:embed="rId7"/>
          <a:stretch/>
        </p:blipFill>
        <p:spPr>
          <a:xfrm>
            <a:off x="5867280" y="2997360"/>
            <a:ext cx="1086120" cy="23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0" descr=""/>
          <p:cNvPicPr/>
          <p:nvPr/>
        </p:nvPicPr>
        <p:blipFill>
          <a:blip r:embed="rId8"/>
          <a:stretch/>
        </p:blipFill>
        <p:spPr>
          <a:xfrm>
            <a:off x="7020000" y="2708280"/>
            <a:ext cx="619200" cy="209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68360" y="3573360"/>
            <a:ext cx="1992600" cy="307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9 CCIAA Provinc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8"/>
          <p:cNvSpPr/>
          <p:nvPr/>
        </p:nvSpPr>
        <p:spPr>
          <a:xfrm>
            <a:off x="5508720" y="3068640"/>
            <a:ext cx="287280" cy="201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D3D6-F8D2-40A4-99D0-640C000E0AE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57200" y="333360"/>
            <a:ext cx="66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Principali innovazioni di metodo e tecn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2"/>
          <p:cNvSpPr/>
          <p:nvPr/>
        </p:nvSpPr>
        <p:spPr>
          <a:xfrm>
            <a:off x="324000" y="1052640"/>
            <a:ext cx="8364240" cy="45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285840">
              <a:buSzPct val="20562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ensimento assistito da archiv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segna da parte del vettore post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stituzione multica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cupero mancate risposte da parte dei rilevato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istema di Gestione della Rilevazione (SG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Utilizzo PEC ed email per solleciti e diffi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ete di rilevazione qualific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76400" indent="-285840">
              <a:buSzPct val="205624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Contenuti informativi ined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51F4-A090-4592-93FF-5B5F06A8412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2411280" y="115920"/>
            <a:ext cx="5362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spedizione post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6"/>
          <p:cNvSpPr/>
          <p:nvPr/>
        </p:nvSpPr>
        <p:spPr>
          <a:xfrm>
            <a:off x="684360" y="692280"/>
            <a:ext cx="71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Esito della spedizione postale dei questionari </a:t>
            </a:r>
            <a:r>
              <a:rPr b="1" lang="it-IT" sz="1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onsegnati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Arial"/>
              </a:rPr>
              <a:t> alle unità di rilevazione per UPC (valori percentual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1"/>
          <p:cNvGraphicFramePr/>
          <p:nvPr/>
        </p:nvGraphicFramePr>
        <p:xfrm>
          <a:off x="755640" y="1341360"/>
          <a:ext cx="7056360" cy="385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0563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5364000" y="582624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40E9-D02C-4B1D-91A4-51A00A4E0EB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29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8508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4"/>
          <p:cNvSpPr/>
          <p:nvPr/>
        </p:nvSpPr>
        <p:spPr>
          <a:xfrm>
            <a:off x="468360" y="155736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magine 15" descr="logo_censimento_istat_payoff.jpg"/>
          <p:cNvPicPr/>
          <p:nvPr/>
        </p:nvPicPr>
        <p:blipFill>
          <a:blip r:embed="rId2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2"/>
          <p:cNvSpPr/>
          <p:nvPr/>
        </p:nvSpPr>
        <p:spPr>
          <a:xfrm>
            <a:off x="482760" y="4851360"/>
            <a:ext cx="8280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042920" y="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7278840" y="1773360"/>
            <a:ext cx="1614240" cy="3250800"/>
            <a:chOff x="7278840" y="1773360"/>
            <a:chExt cx="1614240" cy="3250800"/>
          </a:xfrm>
        </p:grpSpPr>
        <p:sp>
          <p:nvSpPr>
            <p:cNvPr id="144" name="Rectangle 5"/>
            <p:cNvSpPr/>
            <p:nvPr/>
          </p:nvSpPr>
          <p:spPr>
            <a:xfrm>
              <a:off x="7407000" y="4092480"/>
              <a:ext cx="195480" cy="93168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" name="AutoShape 6"/>
            <p:cNvCxnSpPr/>
            <p:nvPr/>
          </p:nvCxnSpPr>
          <p:spPr>
            <a:xfrm flipV="1">
              <a:off x="7496280" y="2097720"/>
              <a:ext cx="1080" cy="199512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6" name="Text Box 7"/>
            <p:cNvSpPr/>
            <p:nvPr/>
          </p:nvSpPr>
          <p:spPr>
            <a:xfrm>
              <a:off x="7278840" y="1773360"/>
              <a:ext cx="16142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00000"/>
                  </a:solidFill>
                  <a:latin typeface="Calibri"/>
                </a:rPr>
                <a:t>Accertamenti  violazione obbligo rispos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2556000" y="1268280"/>
            <a:ext cx="86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Prim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0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284328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4140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780000" y="1268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ost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471636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7640" y="1268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econdo sollecito P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16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V="1">
            <a:off x="5580000" y="1844280"/>
            <a:ext cx="0" cy="2305080"/>
          </a:xfrm>
          <a:prstGeom prst="line">
            <a:avLst/>
          </a:prstGeom>
          <a:ln w="12600">
            <a:solidFill>
              <a:srgbClr val="ca0a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292720" y="1268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Terz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Calibri"/>
              </a:rPr>
              <a:t>sollecito PEC 30.11.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"/>
          <p:cNvPicPr/>
          <p:nvPr/>
        </p:nvPicPr>
        <p:blipFill>
          <a:blip r:embed="rId3"/>
          <a:stretch/>
        </p:blipFill>
        <p:spPr>
          <a:xfrm>
            <a:off x="7885080" y="3500280"/>
            <a:ext cx="971640" cy="247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"/>
          <p:cNvPicPr/>
          <p:nvPr/>
        </p:nvPicPr>
        <p:blipFill>
          <a:blip r:embed="rId4"/>
          <a:stretch/>
        </p:blipFill>
        <p:spPr>
          <a:xfrm>
            <a:off x="7812000" y="3716280"/>
            <a:ext cx="657360" cy="162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5"/>
          <p:cNvSpPr/>
          <p:nvPr/>
        </p:nvSpPr>
        <p:spPr>
          <a:xfrm>
            <a:off x="248436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11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378000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23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4500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7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5292720" y="1052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5m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6300720" y="10526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Arial"/>
              </a:rPr>
              <a:t>= 48mila sollec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5013360"/>
          <a:ext cx="7488000" cy="762120"/>
        </p:xfrm>
        <a:graphic>
          <a:graphicData uri="http://schemas.openxmlformats.org/drawingml/2006/table">
            <a:tbl>
              <a:tblPr/>
              <a:tblGrid>
                <a:gridCol w="91908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  <a:gridCol w="438120"/>
                <a:gridCol w="438120"/>
                <a:gridCol w="438120"/>
                <a:gridCol w="436680"/>
                <a:gridCol w="438120"/>
                <a:gridCol w="438120"/>
                <a:gridCol w="43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et  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-s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8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-o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5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-n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3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-d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-fe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milia-Rom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1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ta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7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8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0000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11"/>
          <p:cNvSpPr/>
          <p:nvPr/>
        </p:nvSpPr>
        <p:spPr>
          <a:xfrm>
            <a:off x="826920" y="404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Tasso di restituzione (variazioni percentuali tra periodi e cumula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87"/>
          <p:cNvGrpSpPr/>
          <p:nvPr/>
        </p:nvGrpSpPr>
        <p:grpSpPr>
          <a:xfrm>
            <a:off x="6588000" y="1268280"/>
            <a:ext cx="1133640" cy="3745080"/>
            <a:chOff x="6588000" y="1268280"/>
            <a:chExt cx="1133640" cy="3745080"/>
          </a:xfrm>
        </p:grpSpPr>
        <p:sp>
          <p:nvSpPr>
            <p:cNvPr id="165" name="Rectangle 388"/>
            <p:cNvSpPr/>
            <p:nvPr/>
          </p:nvSpPr>
          <p:spPr>
            <a:xfrm>
              <a:off x="6946560" y="3889800"/>
              <a:ext cx="226440" cy="112356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AutoShape 389"/>
            <p:cNvCxnSpPr/>
            <p:nvPr/>
          </p:nvCxnSpPr>
          <p:spPr>
            <a:xfrm flipV="1">
              <a:off x="7050600" y="1484640"/>
              <a:ext cx="1080" cy="2404800"/>
            </a:xfrm>
            <a:prstGeom prst="straightConnector1">
              <a:avLst/>
            </a:prstGeom>
            <a:ln w="9360">
              <a:solidFill>
                <a:srgbClr val="c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7" name="Text Box 390"/>
            <p:cNvSpPr/>
            <p:nvPr/>
          </p:nvSpPr>
          <p:spPr>
            <a:xfrm>
              <a:off x="6588000" y="1268280"/>
              <a:ext cx="1133640" cy="11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ca0a20"/>
                  </a:solidFill>
                  <a:latin typeface="Arial"/>
                </a:rPr>
                <a:t>CHIUSU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vale 9"/>
          <p:cNvSpPr/>
          <p:nvPr/>
        </p:nvSpPr>
        <p:spPr>
          <a:xfrm>
            <a:off x="7308720" y="5084640"/>
            <a:ext cx="576360" cy="7207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5FA-15BD-4BCB-AF0B-C8EE9A0A3CC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84360" y="115920"/>
            <a:ext cx="755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 algn="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00"/>
                </a:solidFill>
                <a:latin typeface="Arial"/>
              </a:rPr>
              <a:t>La restituzione dei questionari compil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57200" y="5805360"/>
            <a:ext cx="8305920" cy="0"/>
          </a:xfrm>
          <a:prstGeom prst="line">
            <a:avLst/>
          </a:prstGeom>
          <a:ln w="12600">
            <a:solidFill>
              <a:srgbClr val="ca0a2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Immagine 15" descr="logo_censimento_istat_payoff.jpg"/>
          <p:cNvPicPr/>
          <p:nvPr/>
        </p:nvPicPr>
        <p:blipFill>
          <a:blip r:embed="rId1"/>
          <a:srcRect l="0" t="0" r="0" b="18077"/>
          <a:stretch/>
        </p:blipFill>
        <p:spPr>
          <a:xfrm>
            <a:off x="457200" y="5911920"/>
            <a:ext cx="281772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3" descr=""/>
          <p:cNvPicPr/>
          <p:nvPr/>
        </p:nvPicPr>
        <p:blipFill>
          <a:blip r:embed="rId2"/>
          <a:stretch/>
        </p:blipFill>
        <p:spPr>
          <a:xfrm>
            <a:off x="30240" y="907920"/>
            <a:ext cx="8934480" cy="4152960"/>
          </a:xfrm>
          <a:prstGeom prst="rect">
            <a:avLst/>
          </a:prstGeom>
          <a:ln w="0">
            <a:noFill/>
          </a:ln>
        </p:spPr>
      </p:pic>
      <p:sp>
        <p:nvSpPr>
          <p:cNvPr id="176" name="Ovale 9"/>
          <p:cNvSpPr/>
          <p:nvPr/>
        </p:nvSpPr>
        <p:spPr>
          <a:xfrm>
            <a:off x="2411280" y="2924280"/>
            <a:ext cx="792360" cy="71892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e 9"/>
          <p:cNvSpPr/>
          <p:nvPr/>
        </p:nvSpPr>
        <p:spPr>
          <a:xfrm>
            <a:off x="5651640" y="3573360"/>
            <a:ext cx="50292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e 9"/>
          <p:cNvSpPr/>
          <p:nvPr/>
        </p:nvSpPr>
        <p:spPr>
          <a:xfrm>
            <a:off x="4067280" y="3789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e 9"/>
          <p:cNvSpPr/>
          <p:nvPr/>
        </p:nvSpPr>
        <p:spPr>
          <a:xfrm>
            <a:off x="7164360" y="3573360"/>
            <a:ext cx="503280" cy="28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e 9"/>
          <p:cNvSpPr/>
          <p:nvPr/>
        </p:nvSpPr>
        <p:spPr>
          <a:xfrm>
            <a:off x="1908000" y="4437000"/>
            <a:ext cx="64800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e 9"/>
          <p:cNvSpPr/>
          <p:nvPr/>
        </p:nvSpPr>
        <p:spPr>
          <a:xfrm>
            <a:off x="392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e 9"/>
          <p:cNvSpPr/>
          <p:nvPr/>
        </p:nvSpPr>
        <p:spPr>
          <a:xfrm>
            <a:off x="5580000" y="4508640"/>
            <a:ext cx="647640" cy="64908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e 9"/>
          <p:cNvSpPr/>
          <p:nvPr/>
        </p:nvSpPr>
        <p:spPr>
          <a:xfrm>
            <a:off x="7164360" y="4437000"/>
            <a:ext cx="647640" cy="649440"/>
          </a:xfrm>
          <a:prstGeom prst="ellipse">
            <a:avLst/>
          </a:prstGeom>
          <a:noFill/>
          <a:ln w="9360">
            <a:solidFill>
              <a:srgbClr val="c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8"/>
          <p:cNvSpPr/>
          <p:nvPr/>
        </p:nvSpPr>
        <p:spPr>
          <a:xfrm>
            <a:off x="6084720" y="4508640"/>
            <a:ext cx="71640" cy="215640"/>
          </a:xfrm>
          <a:prstGeom prst="downArrow">
            <a:avLst>
              <a:gd name="adj1" fmla="val 50000"/>
              <a:gd name="adj2" fmla="val 75251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9"/>
          <p:cNvSpPr/>
          <p:nvPr/>
        </p:nvSpPr>
        <p:spPr>
          <a:xfrm>
            <a:off x="7596360" y="450864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0"/>
          <p:cNvSpPr/>
          <p:nvPr/>
        </p:nvSpPr>
        <p:spPr>
          <a:xfrm flipH="1" rot="10800000">
            <a:off x="2411280" y="4508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1"/>
          <p:cNvSpPr/>
          <p:nvPr/>
        </p:nvSpPr>
        <p:spPr>
          <a:xfrm flipH="1" rot="10800000">
            <a:off x="4426560" y="4508280"/>
            <a:ext cx="73080" cy="215640"/>
          </a:xfrm>
          <a:prstGeom prst="downArrow">
            <a:avLst>
              <a:gd name="adj1" fmla="val 50000"/>
              <a:gd name="adj2" fmla="val 73768"/>
            </a:avLst>
          </a:prstGeom>
          <a:solidFill>
            <a:srgbClr val="ca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364000" y="58053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a0a20"/>
                </a:solidFill>
                <a:latin typeface="Courier New"/>
              </a:rPr>
              <a:t>Bologna, 9 maggio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2:14:20Z</dcterms:created>
  <dc:creator>Bruna Tabanella</dc:creator>
  <dc:description/>
  <dc:language>en-US</dc:language>
  <cp:lastModifiedBy>Daniela DL. Lauriello</cp:lastModifiedBy>
  <cp:lastPrinted>2014-04-28T15:02:57Z</cp:lastPrinted>
  <dcterms:modified xsi:type="dcterms:W3CDTF">2014-07-07T14:59:33Z</dcterms:modified>
  <cp:revision>182</cp:revision>
  <dc:subject/>
  <dc:title>Presentazione di PowerPoint</dc:title>
</cp:coreProperties>
</file>